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4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3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7.xml" ContentType="application/vnd.openxmlformats-officedocument.presentationml.slideMaster+xml"/>
  <Override PartName="/ppt/theme/theme29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6.xml" ContentType="application/vnd.openxmlformats-officedocument.theme+xml"/>
  <Override PartName="/ppt/theme/theme8.xml" ContentType="application/vnd.openxmlformats-officedocument.theme+xml"/>
  <Override PartName="/ppt/theme/theme27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30.xml" ContentType="application/vnd.openxmlformats-officedocument.theme+xml"/>
  <Override PartName="/ppt/theme/theme31.xml" ContentType="application/vnd.openxmlformats-officedocument.theme+xml"/>
  <Override PartName="/ppt/theme/theme10.xml" ContentType="application/vnd.openxmlformats-officedocument.theme+xml"/>
  <Override PartName="/ppt/theme/theme23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1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0.xml" ContentType="application/vnd.openxmlformats-officedocument.theme+xml"/>
  <Override PartName="/ppt/theme/theme1.xml" ContentType="application/vnd.openxmlformats-officedocument.theme+xml"/>
  <Override PartName="/ppt/theme/theme17.xml" ContentType="application/vnd.openxmlformats-officedocument.theme+xml"/>
  <Override PartName="/ppt/theme/theme14.xml" ContentType="application/vnd.openxmlformats-officedocument.theme+xml"/>
  <Override PartName="/ppt/theme/theme15.xml" ContentType="application/vnd.openxmlformats-officedocument.theme+xml"/>
  <Override PartName="/ppt/theme/theme16.xml" ContentType="application/vnd.openxmlformats-officedocument.theme+xml"/>
  <Override PartName="/ppt/_rels/presentation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7.xml.rels" ContentType="application/vnd.openxmlformats-package.relationships+xml"/>
  <Override PartName="/ppt/slideLayouts/slideLayout36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28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5.png" ContentType="image/png"/>
  <Override PartName="/ppt/media/image35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</p:sldMasterIdLst>
  <p:sldIdLst>
    <p:sldId id="256" r:id="rId33"/>
    <p:sldId id="257" r:id="rId34"/>
    <p:sldId id="258" r:id="rId35"/>
    <p:sldId id="259" r:id="rId36"/>
    <p:sldId id="260" r:id="rId37"/>
    <p:sldId id="261" r:id="rId38"/>
    <p:sldId id="262" r:id="rId39"/>
    <p:sldId id="263" r:id="rId40"/>
    <p:sldId id="264" r:id="rId41"/>
    <p:sldId id="265" r:id="rId42"/>
    <p:sldId id="266" r:id="rId43"/>
    <p:sldId id="267" r:id="rId44"/>
    <p:sldId id="268" r:id="rId45"/>
    <p:sldId id="269" r:id="rId46"/>
    <p:sldId id="270" r:id="rId47"/>
    <p:sldId id="271" r:id="rId48"/>
    <p:sldId id="272" r:id="rId49"/>
    <p:sldId id="273" r:id="rId50"/>
    <p:sldId id="274" r:id="rId51"/>
    <p:sldId id="275" r:id="rId52"/>
    <p:sldId id="276" r:id="rId53"/>
    <p:sldId id="277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" Target="slides/slide1.xml"/><Relationship Id="rId34" Type="http://schemas.openxmlformats.org/officeDocument/2006/relationships/slide" Target="slides/slide2.xml"/><Relationship Id="rId35" Type="http://schemas.openxmlformats.org/officeDocument/2006/relationships/slide" Target="slides/slide3.xml"/><Relationship Id="rId36" Type="http://schemas.openxmlformats.org/officeDocument/2006/relationships/slide" Target="slides/slide4.xml"/><Relationship Id="rId37" Type="http://schemas.openxmlformats.org/officeDocument/2006/relationships/slide" Target="slides/slide5.xml"/><Relationship Id="rId38" Type="http://schemas.openxmlformats.org/officeDocument/2006/relationships/slide" Target="slides/slide6.xml"/><Relationship Id="rId39" Type="http://schemas.openxmlformats.org/officeDocument/2006/relationships/slide" Target="slides/slide7.xml"/><Relationship Id="rId40" Type="http://schemas.openxmlformats.org/officeDocument/2006/relationships/slide" Target="slides/slide8.xml"/><Relationship Id="rId41" Type="http://schemas.openxmlformats.org/officeDocument/2006/relationships/slide" Target="slides/slide9.xml"/><Relationship Id="rId42" Type="http://schemas.openxmlformats.org/officeDocument/2006/relationships/slide" Target="slides/slide10.xml"/><Relationship Id="rId43" Type="http://schemas.openxmlformats.org/officeDocument/2006/relationships/slide" Target="slides/slide11.xml"/><Relationship Id="rId44" Type="http://schemas.openxmlformats.org/officeDocument/2006/relationships/slide" Target="slides/slide12.xml"/><Relationship Id="rId45" Type="http://schemas.openxmlformats.org/officeDocument/2006/relationships/slide" Target="slides/slide13.xml"/><Relationship Id="rId46" Type="http://schemas.openxmlformats.org/officeDocument/2006/relationships/slide" Target="slides/slide14.xml"/><Relationship Id="rId47" Type="http://schemas.openxmlformats.org/officeDocument/2006/relationships/slide" Target="slides/slide15.xml"/><Relationship Id="rId48" Type="http://schemas.openxmlformats.org/officeDocument/2006/relationships/slide" Target="slides/slide16.xml"/><Relationship Id="rId49" Type="http://schemas.openxmlformats.org/officeDocument/2006/relationships/slide" Target="slides/slide17.xml"/><Relationship Id="rId50" Type="http://schemas.openxmlformats.org/officeDocument/2006/relationships/slide" Target="slides/slide18.xml"/><Relationship Id="rId51" Type="http://schemas.openxmlformats.org/officeDocument/2006/relationships/slide" Target="slides/slide19.xml"/><Relationship Id="rId52" Type="http://schemas.openxmlformats.org/officeDocument/2006/relationships/slide" Target="slides/slide20.xml"/><Relationship Id="rId53" Type="http://schemas.openxmlformats.org/officeDocument/2006/relationships/slide" Target="slides/slide21.xml"/><Relationship Id="rId54" Type="http://schemas.openxmlformats.org/officeDocument/2006/relationships/slide" Target="slides/slide22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B5C6D-3BED-4983-8021-B704386D2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EAFA-D864-45A6-8AC9-EF1B116CF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34FE94-D801-4D97-838D-B0A01EE175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4C2644-3E14-4EA3-A4CB-EA7634399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629DDB-C383-480F-B970-E08EE52F6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DC9192-838C-4977-ACEB-D615088A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6DB08-0BD7-4B30-9369-692346267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9004AA4-C2DE-4E42-A87C-26C925E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8C4A5-6C4B-478D-AB6C-90A77273A9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3DBB2CD-3AB0-4466-9664-7DEFB0E1D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E4AB2B6-1358-4976-815C-6C7E08D360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A7F8A2-4ED4-4702-928A-6F2C1D102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854B2-36EC-46CF-962B-02B6FE0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CD9148-645A-42B3-A4F4-97E8424AA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D727516-DC98-4D86-8412-DD6D03238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F8F5F86-3EC2-49E7-B1A8-833D06610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566E607-1A5A-4FC0-B12E-36F85EA947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DB7ACE-BB3E-4C01-9973-4E8A059E9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CF91F2-A694-4B12-98DE-5D8A9B7BA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0E097-FB78-4A88-B008-89E8DABE9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FD95BDE-0DF2-4F43-A094-41AC5FAF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82C118-A9EC-4274-B589-9CB294027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3BB3B3-ED83-42B3-9B37-D29481DA3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8B940-88CD-433A-9705-CA37798CEF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5823EA-9F4B-4A9E-8814-5984C5543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347EB1-548D-4072-9D18-42BAEABB89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8DBFD5-3CE4-4F8F-B46E-EFDCDB4AA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9C32B1-2A04-41C2-AFD7-8A13C9502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8C1AA5F-A1F1-4757-A973-CE9672AC6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ABFECF7-F190-4FBF-84F2-4D33E547F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39D67A-C1F0-4714-A969-A17D13C3A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33E0B86-C06C-4149-BD6E-76A7F8E6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B08E8C4-AE50-490C-9ACE-75237FF59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5BFA60-7B83-4107-9997-CC06C1CD1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A02C1-ED0A-4479-B670-1DF44512F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C80A333-5BDD-4F1D-AD02-515037577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8C8294-C5D8-41A1-AB68-877E464234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0A5F907-5C2A-4FF0-B54A-6C4426ACF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502FF68-E059-4F79-AB0A-234BAA31F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471700-0BAE-475A-A9BA-A0E729325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EDBE68-E6C5-413E-B537-0C330DB63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8D62AD0-612B-41C2-BFD5-981215045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BFB005B-7A35-4F2D-B2E4-F059CDE7C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1B0638D-F814-4F4E-9B4C-29C28BA4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3D988A-9B18-42D2-B066-7A601F470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110276-7CC4-4848-A0AD-66C2FF9F9B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55B2007-8F5D-471E-A67D-4141A3388F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24B048-73D0-4D07-BF3F-0361DFA3D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E1F73D-E1EF-47CB-B774-D98619A8E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D8CFF62-9F0B-4E4F-B09E-84BF66B41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E08297-0F3D-4705-A10C-F6345B9D43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BB2976C-8BF3-4403-B1EE-2F28B71C55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7309EDE-3EBE-49DC-B3ED-8391A9E9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E146443-9373-4CE8-A719-627668AA12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AFFC154-2174-4938-BE39-BBEF396CC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861BEA-B9FF-4E4A-90CB-0E8E72637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EB769-E30C-4DA7-8D99-D5ECD688B0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F3DC020-4E8A-45AD-B17C-C84B45009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2596BCE-08CE-477B-9743-830E7633A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21321E-D21F-49BA-B1B6-6BD2AE5BB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EFB948-E7DE-45B1-AF67-AF72D6DC32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FCBAFE4-4B2D-4BEC-8353-028D1C2EF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FDAECB-1717-408E-ADA8-F8EB48645F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2618BD-4328-4BCD-8777-F0C36B0E7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F72875C-6164-4C56-A156-2A313DC39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E2EC9B-1B68-4481-BF7C-F491B5B3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C6855DD-BC6A-481E-AF80-8BDC11FC9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9EAAE-E332-4B23-B345-85655E84D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388311-F6A9-4E03-8609-CC1D928D7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576D8D-E44A-4A0B-9350-26A67EC8D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B6D37D-2F3E-4AB4-80E3-BB925F2F59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EC227AC-B3F2-44AC-BFE4-DC75F4A0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24A9A7-4964-40E8-BAFF-58B107F3C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0C8278-6C2F-470C-8C29-625C0984B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9DFDE2-AF40-4E9D-B59B-DB19D450D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E10C9F4-0E1B-4DEC-89E3-60FC768C7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3BA705-AA40-4B9D-B8FD-916DF5C879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2534C2-345E-435C-8A94-8FDF5AFD01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F2C58-F224-46F0-B44E-6B94350FB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06FB9-E6FD-4402-AC3D-A7793A345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8EED67-20D8-4A8C-A9BB-0B8956F60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B09A0A0-A8DF-44FE-BCDC-BA8E13290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53654D36-8D3D-4E9F-B201-56638D803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D13FD81-B7A5-45AB-9C24-454C5699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D26661C-90FC-492E-9109-7B536BA71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9121B2-501A-4BFE-A800-4511E1BEE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DB1B95B-6D26-4AD8-B1E1-124B501EC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BABA80-7007-499A-B44A-848C6A33C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281BABB-B0DD-4E46-8D97-4EFF04993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BDEC-2856-4085-82AD-1F10F905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FFFF4B2A-7892-4769-8619-3AE32D662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C0D3990-61C1-4DC2-A9EA-AB663CB95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1EF7FEE-A3AF-4BE0-A15E-DFF441909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B71C2C0-8D55-4BB9-9352-5234BA358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5BA775E-8C65-4198-A814-C69A6BB3D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2AB03A1-258B-4792-9F4B-DC6F2C60E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DD66F9-B227-4050-AC9A-889B6477F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F5B18A1-AB9F-4947-BF1F-81EA8FA9D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B97D7C6-FD13-4FE6-93D7-63D4A4AB5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FC48EB7-55CC-42C5-8C8E-EFD5ECAAA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48C6C9-4D68-4A87-95B8-69F79D1A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C5606EA-73CB-4A2C-88A5-FEA604EFEC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8740B3-E845-4F26-9B8D-7178597E17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587CE8-78A1-44F1-80B7-79A381A377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2F2528-336E-474E-A571-E87E9804D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C5D8D00-3296-4644-B440-744FCD9AA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9D8ABA-9BD5-4D7D-A878-83566490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BA18F4-2D95-40A5-8071-AF04142E5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05F3765-FDC0-49A7-9EB2-9A271D6EB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C6A3988-4F39-4571-A98F-0FF132006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67C438F-87FD-4C29-8CBB-A4BE9E226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B602-0413-419C-B6A9-B1076E9D0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B1EBE-4DEC-4878-8F87-513A67BB2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CC61E6-421E-452C-AEB9-2EC88F0E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896FD8C-1E1A-4917-A39C-67646136F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D39C4C-8194-47A2-A05F-944BCDD1B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0B91672-0E91-47FB-BDF2-35A24B360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7A5BB1B-8BAC-458E-A5FB-AE4D7773B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8B92F98-DABE-494C-8FDF-6FED9DF00F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20C689E-2CF2-4AC6-9CCD-2C1ED0303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402591C-00B9-4903-89D6-18D409D01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A7A8C7A-9620-4C26-ABDF-6CA513B93C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F37A09-B10A-4E21-A43C-D31ADFDC7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AE3B50-D882-4DB5-9475-D9A862CD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5D4D34-FE2E-4B35-86E7-E0538114D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EF64B05-91C3-46C4-9310-790844EFE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CE5424-CEE6-4544-A70C-7225EC379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C7563CD-774D-4C36-B7D8-5665FBE1D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6512C88-730C-4594-A59B-28EE2314CD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E7DB2C6-F6CC-416A-B68C-BFBEFF55B2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C84A1FF-5E92-448D-968F-CC96CE102C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F36B3E2-9F70-41CE-A922-DF89967E7A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0246318-482C-429A-9A25-5480BAE22D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B7CADCC-23DB-417C-BB3B-D2E779973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E12DBC-3508-4FBD-9526-95B9FD85B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54B8BEA-4BBD-40C8-83C7-3A1B0FE47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6DC641-522C-4F83-9092-DBF83DFC9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D1BF17A-90E5-4D1A-ACF1-F1A10DBF78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EC44A9-0B74-47C5-BC79-C997DE936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3F3AB85-37BE-4AE7-8652-34ABD7140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6DA56C2-5F96-4529-9BC5-8244278C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1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CEBC706-2C1E-41EB-91F2-6486E46A5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16DE931-5A5F-4F02-9D10-F5D97168D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0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2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20DB78-42DE-40D4-8EAB-B72A55F576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1BF68A-4AE2-4D9B-B071-2A9CA301C4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914F9-BD51-47C0-AAA1-D7271B185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8076598-B5AB-4D29-A142-5A0D04DDF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141A543-97F2-45E7-AB3D-34376D326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0BD1E82-0D89-4FFF-9DAF-234124B97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85A3B4D-09EB-451D-8FD4-F2F27F661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B71CBA7-B784-4113-8A4A-4E315D18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BDE9F50-40B6-427E-B942-EC340C7F7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8F9473B-54D3-44DA-94B7-BC3B85B0F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7919D02-6DC6-47BF-BB2D-E43615038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573CC05-BEB9-4117-AFE4-2204A7BB2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ED91B0-D53A-4246-85B9-E27B2E3B4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D6AB3-B7D1-43D1-BE15-CB3D24BF9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C3EB765-C8E7-4EF8-9C24-2AF124E34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828D557-4A53-49D1-8B8C-54BC13658F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035F52B-47AC-433E-83C9-D9BFA574F6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84D795-F3F3-4F7B-9F26-0D7EFF9DA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45B365D-7FBC-4D3A-B749-E75D33A06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E37F671-7754-4160-BEDC-17E0EB337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DAB2AD4-9701-462A-B95D-531FD802D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A7719A7-2802-41E3-886F-0B9389ADA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05BDD47-9E8F-4739-97F8-F7C33339B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B217D40-DE3B-41A9-9262-4C26E4A22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493F5B-9FC9-40A5-9777-1533127066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360DDF8-85B6-4041-B4B0-B1FD63F47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C86AB62-AA77-4B92-9952-1C9245827A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96558E6-3132-4ED4-A868-0DA7DD8D91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5D4BA5B-765B-46BB-8A58-505A104C7C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C0C34FD-307E-45D6-8A38-DFE1BA8FF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A05AC45-8622-46F5-B45B-4C799DFBF8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7B04B2C-B3E3-45D1-83A2-98FE207F3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8CBE11-8045-4E01-95E2-C256421B8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BB9E95E-EE6D-40C5-9C1C-5AC8D711A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4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04BB1BD-7312-412F-9BFF-B11391719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620B9E2-A676-435D-95E4-A58B0B466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67AA634-3D34-4BDD-A51C-9422F7163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41FDF9F-9635-4434-9B03-B378493C9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110B0CD-5C23-4101-B736-ACD50871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1DB15F2-4994-4E59-9E1C-6133CEE49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62EB1197-A1EF-4A0B-A35E-B1B7EF479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3AC13CC-8378-4076-B9F2-B6972B83A8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DA0AA96-2BE0-4361-B604-64B734B3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5065D7D5-3503-4722-9F8A-0AE3CB38B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2F054EE-8DE2-49BA-A2D1-606CC1C15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73B83F2-0C49-438F-AFC1-619DF9A57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BAD9A5-5A32-4453-BD33-784A65277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8AF4129-4FFA-440D-93E5-CF11A58423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4CF6661-1008-49FC-AC73-8A827373FB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7C80108-F862-4B0D-8180-57A727149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61EBF803-2788-4A14-9A5D-BA30F5BD8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FF1A76B-7A2E-496F-A906-808167860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C6A1E770-BA30-47AD-9FCD-AF7EE2F0D4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CF1411-70D9-4549-92E1-19E90DF65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5507DA3-971F-4F90-9A35-851255BC7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48D3576-1940-44C4-BBC9-4ADF17FE63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BDC8F5D-D2F4-408B-AB94-DB73B04985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50C6AE-7B30-4B8A-A8D8-2D017ADD0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9CC36F0-6427-4DCD-93DC-6EF02273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8DBCF72-D23B-4AC3-A7B5-0B13BFA0E7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F6371F5-27FD-4B29-A876-74E63CBAB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4E207B0-1C67-4C98-8A67-B06936C8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FA897FA-29DB-472B-ADB8-285DC98E5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676FF8D-23E9-4BA1-97BA-911C7268E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1322BDF-657F-478E-99A7-CB1C13CE8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C028F73-1117-4BBE-A556-11F40993D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7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BA316A5-3CE8-48FA-BEB5-65FB7BC9D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62D12AE-B55A-4228-9CC7-5DCC90FA58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347A3-F7DD-49AC-8619-4095D0AA3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8531AB3-C576-4F00-AAE1-9A5ABC60C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97242DA5-BB1A-4B77-9A89-FDA9534C3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202890D-97AD-460B-AB79-68B093D69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477A61-C333-4CA1-8128-54EEDDDCD9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6E299C50-7B56-4505-BD0D-CF96BE722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7F2706F-4CA4-42D4-8AE1-7022F3607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5857AE6-44BB-4C50-8724-725BA3641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D4A1D21-FB95-4098-8E31-343DED808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01F4BD7-9537-43C0-A451-54DB7B465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4735442-2F66-4B6C-8807-D30148DD35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837A-9E7B-4C4B-8EAD-2F9660749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8DF8A5-4C3C-4A17-A9BE-9D9C4986D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0C88C02-F840-426D-B946-E6EE0663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919FF65-AF89-4130-9209-78DC709CB6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FF7FAFD-1BA8-475D-B00D-E07CF011FF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9C07296-FE3C-4BCD-80DF-1DCE44A812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B0112A3-4F24-45E6-813C-7EF5C8932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BFB3D9F-63BE-4C0B-8EAB-226B91F86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298A4D9-4B7D-4ABE-9BBA-18180D5AF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31749EB-C509-48E7-B7F7-9EB681019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B8D47C3-19DA-410D-B692-6B37D8200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3909E28-2EFA-41DC-A626-0FD84E471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6D2FB1-DDAF-49ED-ACC8-BAF898717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6F8F089-CC75-4AF0-8E1D-27794E487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92CDC59-1B70-44A2-B11B-8BF6AE76D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35B3112-0870-4297-812A-A2A1161110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E930AB5A-6425-4842-81D3-BA91B96057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8B2A99-0F8E-43C8-8AAC-23C937579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F5AEF9B-5B7E-4EB3-BF00-32758F04A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A9DC46-611F-4B9B-B433-885A2241B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76F3DB4-028A-41AE-9A85-2086D247B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F608CF-7433-4131-A45D-EB2C87151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91E01825-A942-487A-955D-A4B8DEFFB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350D7B-7703-4C9E-B20A-7862CD4FF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DE8F4C6-60BB-400F-9F8B-CA9746A33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45BA792-5662-40D0-B0E2-2FC70B76C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2B9DDE9-C38F-4A16-9620-E82CDCA3A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29EBEC-892F-4962-A5E7-9B518E350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2550741-56BE-46CA-B156-ED8DA2AD9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09FEB22-FB97-4D5B-85D7-F092B270D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8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EAFE7C9-1D10-4339-9710-076017DA1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570AA98-85C0-4384-AB97-7504484D6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18779AF-0565-48B9-AF8D-DFF095B1B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7B5130F-FB35-4AC7-BF35-BB8781253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F8FF9A-4005-4D91-899F-DDBA2480C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D3F4AC5-00A9-4AAA-BCA4-B18C0C508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61CD6CC-7004-4F57-974F-9BBE45B6B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113940F-73A8-4667-9BAD-B12A7C1FF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4185667-FEDA-4AFC-BF21-1153BF317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6AA8226-23FB-49EA-8182-9F574D839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5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C4ADD06-9700-4B77-847E-DA2474B6A9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8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69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0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1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72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8D47399F-A635-4729-8317-6799DF510B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AA5DBE2-E7FD-440F-A028-0CD980531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6600191-5160-4EB7-A486-F567404C3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54E376B-E4D9-41F6-9631-D2DF8D3FE6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44C4A38-8BB5-48E7-BCEE-42AA27B41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D58149C-BB74-48B7-977A-2D3D331C0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A1304A3-6C67-4C64-BEBD-454C20338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AB9E560-925A-4384-93F0-120C9B23D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956E99B-EE55-4617-B915-B8C5F8D0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5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BCE2B5C-0967-457A-8508-3F3CE089D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5139825-9794-4AB1-BB96-1192DC601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6F8F9E9-66D0-432B-AA20-BBC9E5572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7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4C92E078-89EC-4400-9AF9-F015163A9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0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1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2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3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4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37A8B0D-31FF-4A8A-AF12-DA700B0E33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56B7D00-B326-4611-9D56-A60274EF0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F240AF-7CCF-4EAC-9E67-9E62C8C2DE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2C6F19B-0E5C-4F84-B233-85E4CF8F0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DDFF19-237E-405F-9816-AFDE0AE35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0C8ED94-1A77-4C75-B078-F9769D535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B369F85-843D-4879-BFD2-E36F504CD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4F8370-16BA-4280-943C-DDB800288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F56C708-2D9E-4C9A-92BB-B25ABF52A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62CCEB1-D675-4DF3-A277-61A4ED1A9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4FD7E41-80C3-4A17-9B62-C5A7FD33A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89A35E3-A05A-4FAE-9CFE-07028C98C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D48EC39-53A6-4E34-8252-6F4CFB76DC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B8CED6-113E-4432-86C2-721DE83248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75B9A4A-2EE1-4C48-AB6D-0EBA3F5B0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3C8C52D-5AF9-4F8D-9685-D6DC9473D9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1153F14B-82F4-4EE4-8693-A41FA1161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B9C7CC2F-1D0B-4165-9EF8-D7AD1E79E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06BC3AB-3521-48B8-944F-451D3C282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BB45ED5-2523-49F4-80E3-1D0C1F299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D46C8E-2758-4D3C-B405-D14B26F7DD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F3AFF26-44D9-4455-B909-9A66EB82C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2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8E5B235-FFE2-43D1-BE96-1BC4D939E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38E7C263-D851-4E6B-B55E-47DD18DF4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0F6E86-D73C-49F9-86AE-71AECE69EB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518C276-EA3A-40C4-8C42-9B4968014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4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172F14E-5B99-47F5-832D-6874EE1A2D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8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9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0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1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452309C-8E89-4A0F-A87C-07CDE69D2A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1EFF09-AE10-45B0-BB7F-DD1B65509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752CC6-6CE5-4A75-BA2D-1B1AC6B7D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C2309-0995-4AE8-94C1-2DEFED085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5AD00F-E749-442B-9248-DEE7C219A8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E847CA-5A46-47F0-80FC-D3058292F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11F4D04-4260-4D89-AE23-48D91E1239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A3D4D4-AE3A-4943-B69F-5BD085960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320DC0-8A1C-442B-B0A5-5BE2E5346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C1F9AF-BB1F-4465-990C-E9628D368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0855215-1F80-47C1-98D0-320A179F9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9E846D9-4D99-45A0-9660-B3C9BE540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EB723C-A69F-4D35-A877-8AAA7D3A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AE735A-E231-44F8-9B56-3BF6834C1B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5AC9A-D57D-4C38-B2C3-CD66832C3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DCD05A-E651-49CA-98BD-9DA3939DB0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1DF051-2C55-48BC-9926-5A2544638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710847-5F8A-40ED-8561-0BC58D3CE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B6A3357-076F-4886-A43E-708315915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E96016-C311-44AC-87A3-44436D963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BDE9BB-D6DF-4FA5-A1B3-340217451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C31BD4-5FAA-4F04-965E-4A6F41EA6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4CA57D-058A-4412-9DDE-70C9C9134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1677FC-6019-4DA5-B40D-8E148E490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AFA086-1E6B-4004-B8A7-05B84A56D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D7181-DEB5-47B2-9899-1799B00F1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779483-C130-4946-A3DD-A2DD5D905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71E8BF-D573-4FEA-B69D-4FA804478A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206F61-E0E6-40F6-89E7-37E2098E6D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C06016-EE24-464C-BD7A-7AE93552D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9D259A-B573-4FCA-97AE-B0A4A35CE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FB2EA-5682-4984-BB91-5E8310889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B76FB0-667C-44BF-9AB2-8C26F4E4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DBF0E8-4CA8-4187-93DB-4BD9D3D8A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887510-BD71-4498-8C8F-192F18D88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596A2C-3D71-48D8-9DF2-21C30D0F8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DEBA3-5CC7-4C52-A28B-24BBD3437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7D2FBE-81F9-4FD5-A1FD-0606AAF473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F921411-4748-4A0D-8955-DB78457D3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6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F9913C-CEE0-4F2F-A445-44EFC624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3B3635-3420-40C8-B044-2057586115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0B71CD-E20D-4B70-A1CA-A3276C241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B2B585-ECD5-47F5-9727-74C83DC9F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4995CC-93E4-4356-980E-8E0356B51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1B45FDA-22D2-4662-A28F-7A9A8B93C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5305D79-0DA0-44D3-86A6-3A309B36A3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BDA81E-2D26-48C1-91A3-222CF2720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5D139-D013-4884-85A8-C0A89CC19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2E9C8-6AF3-498B-ABB4-4FB839A94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D52EC-6D1B-4C9D-A65B-7D19F066EA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EC9CBC-9A18-4374-A4CB-DD0BC7FAF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0473B8-0F44-4F09-82F8-2970C554C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683CD85-73BE-493B-A24C-0E093D46A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C5421AB-4200-44A0-9840-EADC512792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52A0D4-B596-43F9-927D-6E9F7D87E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A779853-71DF-47D3-819D-F0968B727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7D5B8-2609-418A-83A0-6EF769830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591DCB-0076-442E-AEB8-94E8E0797B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20B2A-CEBE-4F1E-9BD0-D5F6161B1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2B6A0B-B367-451D-BBEA-109F7F607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CF3CE7-FD08-42FA-89E8-4875CAC2EA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D8D1907-FE5C-4FB1-9A85-134A92FBB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1F0D47-5891-4370-91E6-8D19FE547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501480" y="3767400"/>
            <a:ext cx="814104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C2D0277-7191-4493-990A-2D6EA054D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522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/>
          </p:nvPr>
        </p:nvSpPr>
        <p:spPr>
          <a:xfrm>
            <a:off x="4673160" y="3767400"/>
            <a:ext cx="397260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26FEF6-E978-4987-A7FF-548021871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325404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6006600" y="9522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5"/>
          <p:cNvSpPr>
            <a:spLocks noGrp="1"/>
          </p:cNvSpPr>
          <p:nvPr>
            <p:ph/>
          </p:nvPr>
        </p:nvSpPr>
        <p:spPr>
          <a:xfrm>
            <a:off x="50148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6"/>
          <p:cNvSpPr>
            <a:spLocks noGrp="1"/>
          </p:cNvSpPr>
          <p:nvPr>
            <p:ph/>
          </p:nvPr>
        </p:nvSpPr>
        <p:spPr>
          <a:xfrm>
            <a:off x="325404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7"/>
          <p:cNvSpPr>
            <a:spLocks noGrp="1"/>
          </p:cNvSpPr>
          <p:nvPr>
            <p:ph/>
          </p:nvPr>
        </p:nvSpPr>
        <p:spPr>
          <a:xfrm>
            <a:off x="6006600" y="3767400"/>
            <a:ext cx="2621160" cy="257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21A0D2F-69CE-4548-BEB2-A1BC16A66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0A27F2D-FAF8-455B-B8F5-290C26E04C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 type="subTitle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75EE119-F52B-4F03-9424-1C94D67E0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87B8192-7F12-4B9B-AF7D-66B4B1C6A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217.xml"/><Relationship Id="rId8" Type="http://schemas.openxmlformats.org/officeDocument/2006/relationships/slideLayout" Target="../slideLayouts/slideLayout218.xml"/><Relationship Id="rId9" Type="http://schemas.openxmlformats.org/officeDocument/2006/relationships/slideLayout" Target="../slideLayouts/slideLayout219.xml"/><Relationship Id="rId10" Type="http://schemas.openxmlformats.org/officeDocument/2006/relationships/slideLayout" Target="../slideLayouts/slideLayout220.xml"/><Relationship Id="rId11" Type="http://schemas.openxmlformats.org/officeDocument/2006/relationships/slideLayout" Target="../slideLayouts/slideLayout221.xml"/><Relationship Id="rId12" Type="http://schemas.openxmlformats.org/officeDocument/2006/relationships/slideLayout" Target="../slideLayouts/slideLayout222.xml"/><Relationship Id="rId13" Type="http://schemas.openxmlformats.org/officeDocument/2006/relationships/slideLayout" Target="../slideLayouts/slideLayout223.xml"/><Relationship Id="rId14" Type="http://schemas.openxmlformats.org/officeDocument/2006/relationships/slideLayout" Target="../slideLayouts/slideLayout224.xml"/><Relationship Id="rId15" Type="http://schemas.openxmlformats.org/officeDocument/2006/relationships/slideLayout" Target="../slideLayouts/slideLayout225.xml"/><Relationship Id="rId16" Type="http://schemas.openxmlformats.org/officeDocument/2006/relationships/slideLayout" Target="../slideLayouts/slideLayout226.xml"/><Relationship Id="rId17" Type="http://schemas.openxmlformats.org/officeDocument/2006/relationships/slideLayout" Target="../slideLayouts/slideLayout227.xml"/><Relationship Id="rId18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25.xml"/><Relationship Id="rId4" Type="http://schemas.openxmlformats.org/officeDocument/2006/relationships/slideLayout" Target="../slideLayouts/slideLayout326.xml"/><Relationship Id="rId5" Type="http://schemas.openxmlformats.org/officeDocument/2006/relationships/slideLayout" Target="../slideLayouts/slideLayout327.xml"/><Relationship Id="rId6" Type="http://schemas.openxmlformats.org/officeDocument/2006/relationships/slideLayout" Target="../slideLayouts/slideLayout328.xml"/><Relationship Id="rId7" Type="http://schemas.openxmlformats.org/officeDocument/2006/relationships/slideLayout" Target="../slideLayouts/slideLayout329.xml"/><Relationship Id="rId8" Type="http://schemas.openxmlformats.org/officeDocument/2006/relationships/slideLayout" Target="../slideLayouts/slideLayout330.xml"/><Relationship Id="rId9" Type="http://schemas.openxmlformats.org/officeDocument/2006/relationships/slideLayout" Target="../slideLayouts/slideLayout331.xml"/><Relationship Id="rId10" Type="http://schemas.openxmlformats.org/officeDocument/2006/relationships/slideLayout" Target="../slideLayouts/slideLayout332.xml"/><Relationship Id="rId11" Type="http://schemas.openxmlformats.org/officeDocument/2006/relationships/slideLayout" Target="../slideLayouts/slideLayout333.xml"/><Relationship Id="rId12" Type="http://schemas.openxmlformats.org/officeDocument/2006/relationships/slideLayout" Target="../slideLayouts/slideLayout334.xml"/><Relationship Id="rId13" Type="http://schemas.openxmlformats.org/officeDocument/2006/relationships/slideLayout" Target="../slideLayouts/slideLayout335.xml"/><Relationship Id="rId14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49.xml"/><Relationship Id="rId4" Type="http://schemas.openxmlformats.org/officeDocument/2006/relationships/slideLayout" Target="../slideLayouts/slideLayout350.xml"/><Relationship Id="rId5" Type="http://schemas.openxmlformats.org/officeDocument/2006/relationships/slideLayout" Target="../slideLayouts/slideLayout351.xml"/><Relationship Id="rId6" Type="http://schemas.openxmlformats.org/officeDocument/2006/relationships/slideLayout" Target="../slideLayouts/slideLayout352.xml"/><Relationship Id="rId7" Type="http://schemas.openxmlformats.org/officeDocument/2006/relationships/slideLayout" Target="../slideLayouts/slideLayout353.xml"/><Relationship Id="rId8" Type="http://schemas.openxmlformats.org/officeDocument/2006/relationships/slideLayout" Target="../slideLayouts/slideLayout354.xml"/><Relationship Id="rId9" Type="http://schemas.openxmlformats.org/officeDocument/2006/relationships/slideLayout" Target="../slideLayouts/slideLayout355.xml"/><Relationship Id="rId10" Type="http://schemas.openxmlformats.org/officeDocument/2006/relationships/slideLayout" Target="../slideLayouts/slideLayout356.xml"/><Relationship Id="rId11" Type="http://schemas.openxmlformats.org/officeDocument/2006/relationships/slideLayout" Target="../slideLayouts/slideLayout357.xml"/><Relationship Id="rId12" Type="http://schemas.openxmlformats.org/officeDocument/2006/relationships/slideLayout" Target="../slideLayouts/slideLayout358.xml"/><Relationship Id="rId13" Type="http://schemas.openxmlformats.org/officeDocument/2006/relationships/slideLayout" Target="../slideLayouts/slideLayout359.xml"/><Relationship Id="rId14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7E070-AEDC-4FCD-B41B-2C87E68A35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3DE6F4-4C41-4E2F-9B20-C1E956399B1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E109E-FED8-4059-B8D2-7D6305B50C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0B005-33EF-4ED7-8575-C00B00E7A81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81FF2-2A46-40CD-AE70-67A9A2DDD47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7" name="图片 10" descr="图片1"/>
          <p:cNvPicPr/>
          <p:nvPr/>
        </p:nvPicPr>
        <p:blipFill>
          <a:blip r:embed="rId2"/>
          <a:stretch/>
        </p:blipFill>
        <p:spPr>
          <a:xfrm>
            <a:off x="0" y="3726000"/>
            <a:ext cx="1874880" cy="3132000"/>
          </a:xfrm>
          <a:prstGeom prst="rect">
            <a:avLst/>
          </a:prstGeom>
          <a:ln w="0">
            <a:noFill/>
          </a:ln>
        </p:spPr>
      </p:pic>
      <p:pic>
        <p:nvPicPr>
          <p:cNvPr id="538" name="图片 4" descr=""/>
          <p:cNvPicPr/>
          <p:nvPr/>
        </p:nvPicPr>
        <p:blipFill>
          <a:blip r:embed="rId3"/>
          <a:stretch/>
        </p:blipFill>
        <p:spPr>
          <a:xfrm>
            <a:off x="6959520" y="4259160"/>
            <a:ext cx="2202120" cy="2621160"/>
          </a:xfrm>
          <a:prstGeom prst="rect">
            <a:avLst/>
          </a:prstGeom>
          <a:ln w="0">
            <a:noFill/>
          </a:ln>
        </p:spPr>
      </p:pic>
      <p:sp>
        <p:nvSpPr>
          <p:cNvPr id="539" name="矩形 6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0" name="组合 40"/>
          <p:cNvGrpSpPr/>
          <p:nvPr/>
        </p:nvGrpSpPr>
        <p:grpSpPr>
          <a:xfrm>
            <a:off x="7659000" y="294480"/>
            <a:ext cx="1311480" cy="1676160"/>
            <a:chOff x="7659000" y="294480"/>
            <a:chExt cx="1311480" cy="1676160"/>
          </a:xfrm>
        </p:grpSpPr>
        <p:sp>
          <p:nvSpPr>
            <p:cNvPr id="541" name="任意多边形: 形状 41"/>
            <p:cNvSpPr/>
            <p:nvPr/>
          </p:nvSpPr>
          <p:spPr>
            <a:xfrm rot="14680200">
              <a:off x="7999560" y="1345680"/>
              <a:ext cx="113040" cy="15192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2" name="任意多边形: 形状 42"/>
            <p:cNvSpPr/>
            <p:nvPr/>
          </p:nvSpPr>
          <p:spPr>
            <a:xfrm rot="14680200">
              <a:off x="7989840" y="381960"/>
              <a:ext cx="729000" cy="101808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94cb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任意多边形: 形状 43"/>
            <p:cNvSpPr/>
            <p:nvPr/>
          </p:nvSpPr>
          <p:spPr>
            <a:xfrm rot="14680200">
              <a:off x="8420040" y="312480"/>
              <a:ext cx="296640" cy="40428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任意多边形: 形状 44"/>
            <p:cNvSpPr/>
            <p:nvPr/>
          </p:nvSpPr>
          <p:spPr>
            <a:xfrm rot="14680200">
              <a:off x="8033040" y="833040"/>
              <a:ext cx="400680" cy="56592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5" name="任意多边形: 形状 45"/>
            <p:cNvSpPr/>
            <p:nvPr/>
          </p:nvSpPr>
          <p:spPr>
            <a:xfrm rot="14680200">
              <a:off x="7722000" y="1479600"/>
              <a:ext cx="432360" cy="41364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46" name="组合 46"/>
          <p:cNvGrpSpPr/>
          <p:nvPr/>
        </p:nvGrpSpPr>
        <p:grpSpPr>
          <a:xfrm>
            <a:off x="7320600" y="221760"/>
            <a:ext cx="1906920" cy="1788120"/>
            <a:chOff x="7320600" y="221760"/>
            <a:chExt cx="1906920" cy="1788120"/>
          </a:xfrm>
        </p:grpSpPr>
        <p:sp>
          <p:nvSpPr>
            <p:cNvPr id="547" name="任意多边形: 形状 47"/>
            <p:cNvSpPr/>
            <p:nvPr/>
          </p:nvSpPr>
          <p:spPr>
            <a:xfrm rot="1202400">
              <a:off x="7983360" y="357480"/>
              <a:ext cx="1037520" cy="138672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8" name="任意多边形: 形状 48"/>
            <p:cNvSpPr/>
            <p:nvPr/>
          </p:nvSpPr>
          <p:spPr>
            <a:xfrm rot="1202400">
              <a:off x="7742160" y="1455480"/>
              <a:ext cx="149760" cy="19728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9" name="任意多边形: 形状 49"/>
            <p:cNvSpPr/>
            <p:nvPr/>
          </p:nvSpPr>
          <p:spPr>
            <a:xfrm rot="1202400">
              <a:off x="7391880" y="1491480"/>
              <a:ext cx="332280" cy="47592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2F0C7A-E96D-474B-BBA1-790FFD59B9A4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D7ECC-CA15-454D-838C-9018C55670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AF2EE-912B-4CD0-A564-D62885C5ED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6704A-C4A3-4699-8EB7-BB951B39569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5" name="图片 37" descr=""/>
          <p:cNvPicPr/>
          <p:nvPr/>
        </p:nvPicPr>
        <p:blipFill>
          <a:blip r:embed="rId2"/>
          <a:stretch/>
        </p:blipFill>
        <p:spPr>
          <a:xfrm>
            <a:off x="399960" y="4092480"/>
            <a:ext cx="2048040" cy="2238480"/>
          </a:xfrm>
          <a:prstGeom prst="rect">
            <a:avLst/>
          </a:prstGeom>
          <a:ln w="0">
            <a:noFill/>
          </a:ln>
        </p:spPr>
      </p:pic>
      <p:grpSp>
        <p:nvGrpSpPr>
          <p:cNvPr id="636" name="组合 24"/>
          <p:cNvGrpSpPr/>
          <p:nvPr/>
        </p:nvGrpSpPr>
        <p:grpSpPr>
          <a:xfrm>
            <a:off x="6828120" y="80640"/>
            <a:ext cx="2126880" cy="2410560"/>
            <a:chOff x="6828120" y="80640"/>
            <a:chExt cx="2126880" cy="2410560"/>
          </a:xfrm>
        </p:grpSpPr>
        <p:grpSp>
          <p:nvGrpSpPr>
            <p:cNvPr id="637" name="组合 25"/>
            <p:cNvGrpSpPr/>
            <p:nvPr/>
          </p:nvGrpSpPr>
          <p:grpSpPr>
            <a:xfrm>
              <a:off x="7010280" y="80640"/>
              <a:ext cx="1412280" cy="2270160"/>
              <a:chOff x="7010280" y="80640"/>
              <a:chExt cx="1412280" cy="2270160"/>
            </a:xfrm>
          </p:grpSpPr>
          <p:sp>
            <p:nvSpPr>
              <p:cNvPr id="638" name="任意多边形: 形状 30"/>
              <p:cNvSpPr/>
              <p:nvPr/>
            </p:nvSpPr>
            <p:spPr>
              <a:xfrm rot="14134200">
                <a:off x="7575480" y="1531800"/>
                <a:ext cx="180360" cy="13644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9" name="任意多边形: 形状 31"/>
              <p:cNvSpPr/>
              <p:nvPr/>
            </p:nvSpPr>
            <p:spPr>
              <a:xfrm rot="14134200">
                <a:off x="7134840" y="427680"/>
                <a:ext cx="1163160" cy="914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0" name="任意多边形: 形状 32"/>
              <p:cNvSpPr/>
              <p:nvPr/>
            </p:nvSpPr>
            <p:spPr>
              <a:xfrm rot="14134200">
                <a:off x="7517880" y="196560"/>
                <a:ext cx="473040" cy="36324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1" name="任意多边形: 形状 33"/>
              <p:cNvSpPr/>
              <p:nvPr/>
            </p:nvSpPr>
            <p:spPr>
              <a:xfrm rot="14134200">
                <a:off x="7380720" y="934920"/>
                <a:ext cx="639360" cy="50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2" name="任意多边形: 形状 34"/>
              <p:cNvSpPr/>
              <p:nvPr/>
            </p:nvSpPr>
            <p:spPr>
              <a:xfrm rot="14134200">
                <a:off x="7328520" y="1775520"/>
                <a:ext cx="689760" cy="3715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43" name="组合 26"/>
            <p:cNvGrpSpPr/>
            <p:nvPr/>
          </p:nvGrpSpPr>
          <p:grpSpPr>
            <a:xfrm>
              <a:off x="6828120" y="486360"/>
              <a:ext cx="2126880" cy="2004840"/>
              <a:chOff x="6828120" y="486360"/>
              <a:chExt cx="2126880" cy="2004840"/>
            </a:xfrm>
          </p:grpSpPr>
          <p:sp>
            <p:nvSpPr>
              <p:cNvPr id="644" name="任意多边形: 形状 27"/>
              <p:cNvSpPr/>
              <p:nvPr/>
            </p:nvSpPr>
            <p:spPr>
              <a:xfrm rot="1186800">
                <a:off x="7566120" y="636840"/>
                <a:ext cx="1160280" cy="155232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5" name="任意多边形: 形状 28"/>
              <p:cNvSpPr/>
              <p:nvPr/>
            </p:nvSpPr>
            <p:spPr>
              <a:xfrm rot="1186800">
                <a:off x="7298280" y="1869480"/>
                <a:ext cx="167400" cy="2210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6" name="任意多边形: 形状 29"/>
              <p:cNvSpPr/>
              <p:nvPr/>
            </p:nvSpPr>
            <p:spPr>
              <a:xfrm rot="1186800">
                <a:off x="6907320" y="1911240"/>
                <a:ext cx="371880" cy="53280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7" name="矩形 6"/>
          <p:cNvSpPr/>
          <p:nvPr/>
        </p:nvSpPr>
        <p:spPr>
          <a:xfrm>
            <a:off x="1079640" y="976320"/>
            <a:ext cx="6984720" cy="490536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5B55BB-73B7-4A7A-B82C-5BE73A1065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2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93E79-A2E9-4598-8406-DBAFF3A7D3A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0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89D14-BCAA-4169-A353-C35FA8D28A8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5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7FBE3E-5D52-4F0C-BB5A-AF9293BD04C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3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A98BA-6711-4A38-A758-0CD8B06C0CDD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FE0DC-F864-40BF-A6A8-56299DCD1D8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矩形 17"/>
          <p:cNvSpPr/>
          <p:nvPr/>
        </p:nvSpPr>
        <p:spPr>
          <a:xfrm>
            <a:off x="996840" y="1081080"/>
            <a:ext cx="2476440" cy="4695840"/>
          </a:xfrm>
          <a:prstGeom prst="rect">
            <a:avLst/>
          </a:prstGeom>
          <a:solidFill>
            <a:srgbClr val="50a6a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7" name="组合 5" descr=""/>
          <p:cNvPicPr/>
          <p:nvPr/>
        </p:nvPicPr>
        <p:blipFill>
          <a:blip r:embed="rId2"/>
          <a:stretch/>
        </p:blipFill>
        <p:spPr>
          <a:xfrm>
            <a:off x="579600" y="1197000"/>
            <a:ext cx="1019160" cy="287280"/>
          </a:xfrm>
          <a:prstGeom prst="rect">
            <a:avLst/>
          </a:prstGeom>
          <a:ln w="0">
            <a:noFill/>
          </a:ln>
        </p:spPr>
      </p:pic>
      <p:sp>
        <p:nvSpPr>
          <p:cNvPr id="778" name="矩形 8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79" name="组合 9"/>
          <p:cNvGrpSpPr/>
          <p:nvPr/>
        </p:nvGrpSpPr>
        <p:grpSpPr>
          <a:xfrm>
            <a:off x="2646000" y="4061160"/>
            <a:ext cx="1809000" cy="2275920"/>
            <a:chOff x="2646000" y="4061160"/>
            <a:chExt cx="1809000" cy="2275920"/>
          </a:xfrm>
        </p:grpSpPr>
        <p:sp>
          <p:nvSpPr>
            <p:cNvPr id="780" name="任意多边形: 形状 51"/>
            <p:cNvSpPr/>
            <p:nvPr/>
          </p:nvSpPr>
          <p:spPr>
            <a:xfrm rot="302400">
              <a:off x="3133440" y="4112640"/>
              <a:ext cx="1250280" cy="16718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1" name="任意多边形: 形状 52"/>
            <p:cNvSpPr/>
            <p:nvPr/>
          </p:nvSpPr>
          <p:spPr>
            <a:xfrm rot="302400">
              <a:off x="3027240" y="5629680"/>
              <a:ext cx="180360" cy="23796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2" name="任意多边形: 形状 53"/>
            <p:cNvSpPr/>
            <p:nvPr/>
          </p:nvSpPr>
          <p:spPr>
            <a:xfrm rot="302400">
              <a:off x="2670120" y="5746320"/>
              <a:ext cx="400680" cy="57384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83" name="组合 13"/>
          <p:cNvGrpSpPr/>
          <p:nvPr/>
        </p:nvGrpSpPr>
        <p:grpSpPr>
          <a:xfrm>
            <a:off x="3473280" y="4651200"/>
            <a:ext cx="594000" cy="1273320"/>
            <a:chOff x="3473280" y="4651200"/>
            <a:chExt cx="594000" cy="1273320"/>
          </a:xfrm>
        </p:grpSpPr>
        <p:sp>
          <p:nvSpPr>
            <p:cNvPr id="784" name="矩形 14"/>
            <p:cNvSpPr/>
            <p:nvPr/>
          </p:nvSpPr>
          <p:spPr>
            <a:xfrm>
              <a:off x="3558240" y="4651200"/>
              <a:ext cx="416880" cy="299880"/>
            </a:xfrm>
            <a:prstGeom prst="rect">
              <a:avLst/>
            </a:pr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5" name="任意多边形: 形状 15"/>
            <p:cNvSpPr/>
            <p:nvPr/>
          </p:nvSpPr>
          <p:spPr>
            <a:xfrm>
              <a:off x="3480480" y="4946040"/>
              <a:ext cx="586800" cy="978480"/>
            </a:xfrm>
            <a:custGeom>
              <a:avLst/>
              <a:gdLst/>
              <a:ahLst/>
              <a:rect l="l" t="t" r="r" b="b"/>
              <a:pathLst>
                <a:path w="343790" h="430150">
                  <a:moveTo>
                    <a:pt x="0" y="67056"/>
                  </a:moveTo>
                  <a:cubicBezTo>
                    <a:pt x="24256" y="54102"/>
                    <a:pt x="58928" y="25654"/>
                    <a:pt x="75692" y="0"/>
                  </a:cubicBezTo>
                  <a:lnTo>
                    <a:pt x="259969" y="0"/>
                  </a:lnTo>
                  <a:cubicBezTo>
                    <a:pt x="278638" y="29464"/>
                    <a:pt x="316738" y="53467"/>
                    <a:pt x="343789" y="67056"/>
                  </a:cubicBezTo>
                  <a:lnTo>
                    <a:pt x="343789" y="389128"/>
                  </a:lnTo>
                  <a:cubicBezTo>
                    <a:pt x="334518" y="414528"/>
                    <a:pt x="326517" y="424307"/>
                    <a:pt x="302768" y="430149"/>
                  </a:cubicBezTo>
                  <a:lnTo>
                    <a:pt x="33528" y="430149"/>
                  </a:lnTo>
                  <a:cubicBezTo>
                    <a:pt x="17018" y="427101"/>
                    <a:pt x="5969" y="415417"/>
                    <a:pt x="0" y="395605"/>
                  </a:cubicBezTo>
                  <a:cubicBezTo>
                    <a:pt x="0" y="281051"/>
                    <a:pt x="0" y="120015"/>
                    <a:pt x="0" y="67056"/>
                  </a:cubicBezTo>
                  <a:close/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6" name="任意多边形: 形状 16"/>
            <p:cNvSpPr/>
            <p:nvPr/>
          </p:nvSpPr>
          <p:spPr>
            <a:xfrm>
              <a:off x="3473280" y="5308560"/>
              <a:ext cx="594000" cy="280440"/>
            </a:xfrm>
            <a:custGeom>
              <a:avLst/>
              <a:gdLst/>
              <a:ahLst/>
              <a:rect l="l" t="t" r="r" b="b"/>
              <a:pathLst>
                <a:path w="348108" h="123318">
                  <a:moveTo>
                    <a:pt x="0" y="0"/>
                  </a:moveTo>
                  <a:lnTo>
                    <a:pt x="348107" y="0"/>
                  </a:lnTo>
                  <a:lnTo>
                    <a:pt x="348107" y="123317"/>
                  </a:lnTo>
                  <a:lnTo>
                    <a:pt x="0" y="108712"/>
                  </a:lnTo>
                </a:path>
              </a:pathLst>
            </a:custGeom>
            <a:solidFill>
              <a:srgbClr val="7443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7" name="矩形 18"/>
          <p:cNvSpPr/>
          <p:nvPr/>
        </p:nvSpPr>
        <p:spPr>
          <a:xfrm>
            <a:off x="1465200" y="38196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矩形 19"/>
          <p:cNvSpPr/>
          <p:nvPr/>
        </p:nvSpPr>
        <p:spPr>
          <a:xfrm>
            <a:off x="1465200" y="4309920"/>
            <a:ext cx="115272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矩形 20"/>
          <p:cNvSpPr/>
          <p:nvPr/>
        </p:nvSpPr>
        <p:spPr>
          <a:xfrm>
            <a:off x="1461960" y="480060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矩形 21"/>
          <p:cNvSpPr/>
          <p:nvPr/>
        </p:nvSpPr>
        <p:spPr>
          <a:xfrm>
            <a:off x="1461960" y="529128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矩形 22"/>
          <p:cNvSpPr/>
          <p:nvPr/>
        </p:nvSpPr>
        <p:spPr>
          <a:xfrm>
            <a:off x="1465200" y="2844720"/>
            <a:ext cx="1154160" cy="1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矩形 23"/>
          <p:cNvSpPr/>
          <p:nvPr/>
        </p:nvSpPr>
        <p:spPr>
          <a:xfrm>
            <a:off x="1461960" y="3335400"/>
            <a:ext cx="1154160" cy="17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矩形 24"/>
          <p:cNvSpPr/>
          <p:nvPr/>
        </p:nvSpPr>
        <p:spPr>
          <a:xfrm>
            <a:off x="2878200" y="2739960"/>
            <a:ext cx="181080" cy="2412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矩形 42"/>
          <p:cNvSpPr/>
          <p:nvPr/>
        </p:nvSpPr>
        <p:spPr>
          <a:xfrm>
            <a:off x="2878200" y="32274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矩形 43"/>
          <p:cNvSpPr/>
          <p:nvPr/>
        </p:nvSpPr>
        <p:spPr>
          <a:xfrm>
            <a:off x="2878200" y="371484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矩形 44"/>
          <p:cNvSpPr/>
          <p:nvPr/>
        </p:nvSpPr>
        <p:spPr>
          <a:xfrm>
            <a:off x="2878200" y="4202280"/>
            <a:ext cx="181080" cy="23940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矩形 45"/>
          <p:cNvSpPr/>
          <p:nvPr/>
        </p:nvSpPr>
        <p:spPr>
          <a:xfrm>
            <a:off x="2878200" y="468936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矩形 46"/>
          <p:cNvSpPr/>
          <p:nvPr/>
        </p:nvSpPr>
        <p:spPr>
          <a:xfrm>
            <a:off x="2878200" y="5176800"/>
            <a:ext cx="181080" cy="239760"/>
          </a:xfrm>
          <a:prstGeom prst="rect">
            <a:avLst/>
          </a:prstGeom>
          <a:noFill/>
          <a:ln w="19080">
            <a:solidFill>
              <a:srgbClr val="ffffff">
                <a:alpha val="68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9" name="文本框 25" descr=""/>
          <p:cNvPicPr/>
          <p:nvPr/>
        </p:nvPicPr>
        <p:blipFill>
          <a:blip r:embed="rId3"/>
          <a:stretch/>
        </p:blipFill>
        <p:spPr>
          <a:xfrm>
            <a:off x="2827440" y="260352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0" name="文本框 47" descr=""/>
          <p:cNvPicPr/>
          <p:nvPr/>
        </p:nvPicPr>
        <p:blipFill>
          <a:blip r:embed="rId4"/>
          <a:stretch/>
        </p:blipFill>
        <p:spPr>
          <a:xfrm>
            <a:off x="2827440" y="3094200"/>
            <a:ext cx="290520" cy="412560"/>
          </a:xfrm>
          <a:prstGeom prst="rect">
            <a:avLst/>
          </a:prstGeom>
          <a:ln w="0">
            <a:noFill/>
          </a:ln>
        </p:spPr>
      </p:pic>
      <p:pic>
        <p:nvPicPr>
          <p:cNvPr id="801" name="文本框 49" descr=""/>
          <p:cNvPicPr/>
          <p:nvPr/>
        </p:nvPicPr>
        <p:blipFill>
          <a:blip r:embed="rId5"/>
          <a:stretch/>
        </p:blipFill>
        <p:spPr>
          <a:xfrm>
            <a:off x="2827440" y="4073400"/>
            <a:ext cx="290520" cy="412920"/>
          </a:xfrm>
          <a:prstGeom prst="rect">
            <a:avLst/>
          </a:prstGeom>
          <a:ln w="0">
            <a:noFill/>
          </a:ln>
        </p:spPr>
      </p:pic>
      <p:pic>
        <p:nvPicPr>
          <p:cNvPr id="802" name="文本框 51" descr=""/>
          <p:cNvPicPr/>
          <p:nvPr/>
        </p:nvPicPr>
        <p:blipFill>
          <a:blip r:embed="rId6"/>
          <a:stretch/>
        </p:blipFill>
        <p:spPr>
          <a:xfrm>
            <a:off x="2827440" y="5054760"/>
            <a:ext cx="290520" cy="412560"/>
          </a:xfrm>
          <a:prstGeom prst="rect">
            <a:avLst/>
          </a:prstGeom>
          <a:ln w="0">
            <a:noFill/>
          </a:ln>
        </p:spPr>
      </p:pic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21640-739D-4A82-82D3-CAF8D6C02BE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29AF41-E74E-406A-888B-23BAD31AC1E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7"/>
    <p:sldLayoutId id="2147483884" r:id="rId8"/>
    <p:sldLayoutId id="2147483885" r:id="rId9"/>
    <p:sldLayoutId id="2147483886" r:id="rId10"/>
    <p:sldLayoutId id="2147483887" r:id="rId11"/>
    <p:sldLayoutId id="2147483888" r:id="rId12"/>
    <p:sldLayoutId id="2147483889" r:id="rId13"/>
    <p:sldLayoutId id="2147483890" r:id="rId14"/>
    <p:sldLayoutId id="2147483891" r:id="rId15"/>
    <p:sldLayoutId id="2147483892" r:id="rId16"/>
    <p:sldLayoutId id="2147483893" r:id="rId17"/>
    <p:sldLayoutId id="2147483894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F30E38-59E4-4B45-8B2E-F856EB64EBB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A35AFF-4F71-4534-9790-E6FB8D452C2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1E397A-8427-4E29-A44A-25C0237815E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0A3E3-4032-49D4-97EF-3A72E3BE8C30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7" name="图片 26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02581-0A40-42AC-ABA7-CA396A59AD4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05B1C-EF17-4811-824D-05118A7EE75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0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 type="dt" idx="6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855A4-6B1C-41B5-8ACB-B6D9B5FDC1B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 type="ftr" idx="6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PlaceHolder 5"/>
          <p:cNvSpPr>
            <a:spLocks noGrp="1"/>
          </p:cNvSpPr>
          <p:nvPr>
            <p:ph type="sldNum" idx="6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63C8-A689-4713-9AAE-78B2021E4591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3" name="图片 23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9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76" name="PlaceHolder 3"/>
          <p:cNvSpPr>
            <a:spLocks noGrp="1"/>
          </p:cNvSpPr>
          <p:nvPr>
            <p:ph type="dt" idx="6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0ADF-0269-487E-ACF3-7580908A6598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PlaceHolder 4"/>
          <p:cNvSpPr>
            <a:spLocks noGrp="1"/>
          </p:cNvSpPr>
          <p:nvPr>
            <p:ph type="ftr" idx="6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8" name="PlaceHolder 5"/>
          <p:cNvSpPr>
            <a:spLocks noGrp="1"/>
          </p:cNvSpPr>
          <p:nvPr>
            <p:ph type="sldNum" idx="6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AF86-B75B-47B9-9963-2974B2B834F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6" name="矩形 5"/>
          <p:cNvSpPr/>
          <p:nvPr/>
        </p:nvSpPr>
        <p:spPr>
          <a:xfrm>
            <a:off x="330120" y="449280"/>
            <a:ext cx="8483760" cy="5959440"/>
          </a:xfrm>
          <a:prstGeom prst="rect">
            <a:avLst/>
          </a:prstGeom>
          <a:noFill/>
          <a:ln w="50760">
            <a:solidFill>
              <a:srgbClr val="a1beca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7" name="图片 53" descr=""/>
          <p:cNvPicPr/>
          <p:nvPr/>
        </p:nvPicPr>
        <p:blipFill>
          <a:blip r:embed="rId2"/>
          <a:stretch/>
        </p:blipFill>
        <p:spPr>
          <a:xfrm>
            <a:off x="-25560" y="3940200"/>
            <a:ext cx="2176560" cy="3133800"/>
          </a:xfrm>
          <a:prstGeom prst="rect">
            <a:avLst/>
          </a:prstGeom>
          <a:ln w="0">
            <a:noFill/>
          </a:ln>
        </p:spPr>
      </p:pic>
      <p:grpSp>
        <p:nvGrpSpPr>
          <p:cNvPr id="1018" name="组合 27"/>
          <p:cNvGrpSpPr/>
          <p:nvPr/>
        </p:nvGrpSpPr>
        <p:grpSpPr>
          <a:xfrm>
            <a:off x="6818040" y="3924720"/>
            <a:ext cx="2980080" cy="3086280"/>
            <a:chOff x="6818040" y="3924720"/>
            <a:chExt cx="2980080" cy="3086280"/>
          </a:xfrm>
        </p:grpSpPr>
        <p:grpSp>
          <p:nvGrpSpPr>
            <p:cNvPr id="1019" name="组合 28"/>
            <p:cNvGrpSpPr/>
            <p:nvPr/>
          </p:nvGrpSpPr>
          <p:grpSpPr>
            <a:xfrm>
              <a:off x="7249320" y="3924720"/>
              <a:ext cx="1672560" cy="2851560"/>
              <a:chOff x="7249320" y="3924720"/>
              <a:chExt cx="1672560" cy="2851560"/>
            </a:xfrm>
          </p:grpSpPr>
          <p:sp>
            <p:nvSpPr>
              <p:cNvPr id="1020" name="矩形 32"/>
              <p:cNvSpPr/>
              <p:nvPr/>
            </p:nvSpPr>
            <p:spPr>
              <a:xfrm rot="1510800">
                <a:off x="7872120" y="389088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021" name="组合 33"/>
              <p:cNvGrpSpPr/>
              <p:nvPr/>
            </p:nvGrpSpPr>
            <p:grpSpPr>
              <a:xfrm>
                <a:off x="7249320" y="3924720"/>
                <a:ext cx="1672560" cy="2851560"/>
                <a:chOff x="7249320" y="3924720"/>
                <a:chExt cx="1672560" cy="2851560"/>
              </a:xfrm>
            </p:grpSpPr>
            <p:sp>
              <p:nvSpPr>
                <p:cNvPr id="1022" name="任意多边形: 形状 34"/>
                <p:cNvSpPr/>
                <p:nvPr/>
              </p:nvSpPr>
              <p:spPr>
                <a:xfrm rot="1510800">
                  <a:off x="7853760" y="38865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3" name="任意多边形: 形状 35"/>
                <p:cNvSpPr/>
                <p:nvPr/>
              </p:nvSpPr>
              <p:spPr>
                <a:xfrm rot="1510800">
                  <a:off x="7849800" y="38847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024" name="组合 29"/>
            <p:cNvGrpSpPr/>
            <p:nvPr/>
          </p:nvGrpSpPr>
          <p:grpSpPr>
            <a:xfrm>
              <a:off x="6818040" y="4000320"/>
              <a:ext cx="2980080" cy="3010680"/>
              <a:chOff x="6818040" y="4000320"/>
              <a:chExt cx="2980080" cy="3010680"/>
            </a:xfrm>
          </p:grpSpPr>
          <p:sp>
            <p:nvSpPr>
              <p:cNvPr id="1025" name="任意多边形: 形状 30"/>
              <p:cNvSpPr/>
              <p:nvPr/>
            </p:nvSpPr>
            <p:spPr>
              <a:xfrm rot="21490800">
                <a:off x="7193520" y="551196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6" name="PA_ImportSvg_637165986937551442"/>
              <p:cNvSpPr/>
              <p:nvPr/>
            </p:nvSpPr>
            <p:spPr>
              <a:xfrm rot="2577600">
                <a:off x="7399800" y="429408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027" name="组合 37"/>
          <p:cNvGrpSpPr/>
          <p:nvPr/>
        </p:nvGrpSpPr>
        <p:grpSpPr>
          <a:xfrm>
            <a:off x="8640" y="306720"/>
            <a:ext cx="1312560" cy="1675080"/>
            <a:chOff x="8640" y="306720"/>
            <a:chExt cx="1312560" cy="1675080"/>
          </a:xfrm>
        </p:grpSpPr>
        <p:sp>
          <p:nvSpPr>
            <p:cNvPr id="1028" name="任意多边形: 形状 42"/>
            <p:cNvSpPr/>
            <p:nvPr/>
          </p:nvSpPr>
          <p:spPr>
            <a:xfrm flipH="1" rot="6919800">
              <a:off x="867240" y="1356840"/>
              <a:ext cx="112680" cy="152280"/>
            </a:xfrm>
            <a:custGeom>
              <a:avLst/>
              <a:gdLst/>
              <a:ahLst/>
              <a:rect l="l" t="t" r="r" b="b"/>
              <a:pathLst>
                <a:path w="102616" h="103759">
                  <a:moveTo>
                    <a:pt x="0" y="61595"/>
                  </a:moveTo>
                  <a:lnTo>
                    <a:pt x="61595" y="0"/>
                  </a:lnTo>
                  <a:lnTo>
                    <a:pt x="102616" y="40005"/>
                  </a:lnTo>
                  <a:lnTo>
                    <a:pt x="39878" y="103759"/>
                  </a:lnTo>
                  <a:lnTo>
                    <a:pt x="0" y="61595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任意多边形: 形状 43"/>
            <p:cNvSpPr/>
            <p:nvPr/>
          </p:nvSpPr>
          <p:spPr>
            <a:xfrm flipH="1" rot="6919800">
              <a:off x="261000" y="393480"/>
              <a:ext cx="727920" cy="1019160"/>
            </a:xfrm>
            <a:custGeom>
              <a:avLst/>
              <a:gdLst/>
              <a:ahLst/>
              <a:rect l="l" t="t" r="r" b="b"/>
              <a:pathLst>
                <a:path w="661543" h="693928">
                  <a:moveTo>
                    <a:pt x="11430" y="181610"/>
                  </a:moveTo>
                  <a:lnTo>
                    <a:pt x="0" y="60579"/>
                  </a:lnTo>
                  <a:lnTo>
                    <a:pt x="57404" y="0"/>
                  </a:lnTo>
                  <a:lnTo>
                    <a:pt x="168656" y="8636"/>
                  </a:lnTo>
                  <a:lnTo>
                    <a:pt x="661543" y="445389"/>
                  </a:lnTo>
                  <a:lnTo>
                    <a:pt x="421640" y="693928"/>
                  </a:lnTo>
                  <a:lnTo>
                    <a:pt x="11430" y="181610"/>
                  </a:lnTo>
                </a:path>
              </a:pathLst>
            </a:custGeom>
            <a:solidFill>
              <a:srgbClr val="b8dd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任意多边形: 形状 44"/>
            <p:cNvSpPr/>
            <p:nvPr/>
          </p:nvSpPr>
          <p:spPr>
            <a:xfrm flipH="1" rot="6919800">
              <a:off x="262080" y="324360"/>
              <a:ext cx="295920" cy="404640"/>
            </a:xfrm>
            <a:custGeom>
              <a:avLst/>
              <a:gdLst/>
              <a:ahLst/>
              <a:rect l="l" t="t" r="r" b="b"/>
              <a:pathLst>
                <a:path w="269113" h="275590">
                  <a:moveTo>
                    <a:pt x="269113" y="32512"/>
                  </a:moveTo>
                  <a:lnTo>
                    <a:pt x="239903" y="0"/>
                  </a:lnTo>
                  <a:lnTo>
                    <a:pt x="0" y="243205"/>
                  </a:lnTo>
                  <a:lnTo>
                    <a:pt x="32385" y="275590"/>
                  </a:lnTo>
                  <a:lnTo>
                    <a:pt x="269113" y="32512"/>
                  </a:lnTo>
                </a:path>
              </a:pathLst>
            </a:custGeom>
            <a:solidFill>
              <a:srgbClr val="dbeee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任意多边形: 形状 45"/>
            <p:cNvSpPr/>
            <p:nvPr/>
          </p:nvSpPr>
          <p:spPr>
            <a:xfrm flipH="1" rot="6919800">
              <a:off x="545760" y="844560"/>
              <a:ext cx="399960" cy="566640"/>
            </a:xfrm>
            <a:custGeom>
              <a:avLst/>
              <a:gdLst/>
              <a:ahLst/>
              <a:rect l="l" t="t" r="r" b="b"/>
              <a:pathLst>
                <a:path w="363728" h="385826">
                  <a:moveTo>
                    <a:pt x="363728" y="182626"/>
                  </a:moveTo>
                  <a:lnTo>
                    <a:pt x="171323" y="385826"/>
                  </a:lnTo>
                  <a:lnTo>
                    <a:pt x="0" y="172974"/>
                  </a:lnTo>
                  <a:lnTo>
                    <a:pt x="161544" y="0"/>
                  </a:lnTo>
                  <a:lnTo>
                    <a:pt x="363728" y="182626"/>
                  </a:lnTo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任意多边形: 形状 46"/>
            <p:cNvSpPr/>
            <p:nvPr/>
          </p:nvSpPr>
          <p:spPr>
            <a:xfrm flipH="1" rot="6919800">
              <a:off x="825840" y="1491120"/>
              <a:ext cx="431640" cy="414000"/>
            </a:xfrm>
            <a:custGeom>
              <a:avLst/>
              <a:gdLst/>
              <a:ahLst/>
              <a:rect l="l" t="t" r="r" b="b"/>
              <a:pathLst>
                <a:path w="392304" h="281941">
                  <a:moveTo>
                    <a:pt x="93980" y="68199"/>
                  </a:moveTo>
                  <a:cubicBezTo>
                    <a:pt x="117475" y="53594"/>
                    <a:pt x="140970" y="76327"/>
                    <a:pt x="119380" y="98933"/>
                  </a:cubicBezTo>
                  <a:lnTo>
                    <a:pt x="76708" y="143764"/>
                  </a:lnTo>
                  <a:cubicBezTo>
                    <a:pt x="62357" y="178308"/>
                    <a:pt x="94869" y="198628"/>
                    <a:pt x="117729" y="182626"/>
                  </a:cubicBezTo>
                  <a:lnTo>
                    <a:pt x="291338" y="16129"/>
                  </a:lnTo>
                  <a:cubicBezTo>
                    <a:pt x="356616" y="0"/>
                    <a:pt x="392303" y="33909"/>
                    <a:pt x="381508" y="99314"/>
                  </a:cubicBezTo>
                  <a:cubicBezTo>
                    <a:pt x="372110" y="128778"/>
                    <a:pt x="356616" y="136017"/>
                    <a:pt x="330708" y="163068"/>
                  </a:cubicBezTo>
                  <a:cubicBezTo>
                    <a:pt x="308229" y="187452"/>
                    <a:pt x="315468" y="204978"/>
                    <a:pt x="332867" y="220345"/>
                  </a:cubicBezTo>
                  <a:lnTo>
                    <a:pt x="364871" y="252095"/>
                  </a:lnTo>
                  <a:lnTo>
                    <a:pt x="335026" y="281940"/>
                  </a:lnTo>
                  <a:lnTo>
                    <a:pt x="292862" y="239014"/>
                  </a:lnTo>
                  <a:cubicBezTo>
                    <a:pt x="261747" y="206883"/>
                    <a:pt x="271526" y="172847"/>
                    <a:pt x="300482" y="142875"/>
                  </a:cubicBezTo>
                  <a:lnTo>
                    <a:pt x="341503" y="100711"/>
                  </a:lnTo>
                  <a:cubicBezTo>
                    <a:pt x="356616" y="73914"/>
                    <a:pt x="338836" y="41529"/>
                    <a:pt x="296164" y="58547"/>
                  </a:cubicBezTo>
                  <a:lnTo>
                    <a:pt x="149098" y="217424"/>
                  </a:lnTo>
                  <a:cubicBezTo>
                    <a:pt x="82677" y="262763"/>
                    <a:pt x="0" y="217424"/>
                    <a:pt x="44196" y="122301"/>
                  </a:cubicBezTo>
                  <a:close/>
                </a:path>
              </a:pathLst>
            </a:custGeom>
            <a:solidFill>
              <a:srgbClr val="50a6a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3" name="组合 38"/>
          <p:cNvGrpSpPr/>
          <p:nvPr/>
        </p:nvGrpSpPr>
        <p:grpSpPr>
          <a:xfrm>
            <a:off x="-247320" y="234360"/>
            <a:ext cx="1905840" cy="1786680"/>
            <a:chOff x="-247320" y="234360"/>
            <a:chExt cx="1905840" cy="1786680"/>
          </a:xfrm>
        </p:grpSpPr>
        <p:sp>
          <p:nvSpPr>
            <p:cNvPr id="1034" name="任意多边形: 形状 39"/>
            <p:cNvSpPr/>
            <p:nvPr/>
          </p:nvSpPr>
          <p:spPr>
            <a:xfrm flipH="1" rot="20397600">
              <a:off x="-41400" y="369720"/>
              <a:ext cx="1036440" cy="1385640"/>
            </a:xfrm>
            <a:custGeom>
              <a:avLst/>
              <a:gdLst/>
              <a:ahLst/>
              <a:rect l="l" t="t" r="r" b="b"/>
              <a:pathLst>
                <a:path w="1049275" h="1052323">
                  <a:moveTo>
                    <a:pt x="993648" y="16510"/>
                  </a:moveTo>
                  <a:cubicBezTo>
                    <a:pt x="1039622" y="0"/>
                    <a:pt x="1049274" y="26289"/>
                    <a:pt x="1045591" y="68453"/>
                  </a:cubicBezTo>
                  <a:cubicBezTo>
                    <a:pt x="726059" y="414782"/>
                    <a:pt x="205740" y="1052322"/>
                    <a:pt x="137668" y="1045591"/>
                  </a:cubicBezTo>
                  <a:cubicBezTo>
                    <a:pt x="119762" y="1046861"/>
                    <a:pt x="81662" y="1002157"/>
                    <a:pt x="63374" y="981456"/>
                  </a:cubicBezTo>
                  <a:cubicBezTo>
                    <a:pt x="0" y="941832"/>
                    <a:pt x="652653" y="362331"/>
                    <a:pt x="993648" y="16510"/>
                  </a:cubicBezTo>
                  <a:close/>
                </a:path>
              </a:pathLst>
            </a:custGeom>
            <a:solidFill>
              <a:srgbClr val="525e8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任意多边形: 形状 40"/>
            <p:cNvSpPr/>
            <p:nvPr/>
          </p:nvSpPr>
          <p:spPr>
            <a:xfrm flipH="1" rot="20397600">
              <a:off x="1086480" y="1467000"/>
              <a:ext cx="149760" cy="196920"/>
            </a:xfrm>
            <a:custGeom>
              <a:avLst/>
              <a:gdLst/>
              <a:ahLst/>
              <a:rect l="l" t="t" r="r" b="b"/>
              <a:pathLst>
                <a:path w="151638" h="149860">
                  <a:moveTo>
                    <a:pt x="0" y="101219"/>
                  </a:moveTo>
                  <a:lnTo>
                    <a:pt x="46990" y="149860"/>
                  </a:lnTo>
                  <a:lnTo>
                    <a:pt x="151638" y="46990"/>
                  </a:lnTo>
                  <a:lnTo>
                    <a:pt x="102235" y="0"/>
                  </a:lnTo>
                  <a:lnTo>
                    <a:pt x="0" y="101219"/>
                  </a:lnTo>
                </a:path>
              </a:pathLst>
            </a:custGeom>
            <a:solidFill>
              <a:srgbClr val="d9d9d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任意多边形: 形状 41"/>
            <p:cNvSpPr/>
            <p:nvPr/>
          </p:nvSpPr>
          <p:spPr>
            <a:xfrm flipH="1" rot="20397600">
              <a:off x="1254600" y="1503000"/>
              <a:ext cx="331920" cy="475560"/>
            </a:xfrm>
            <a:custGeom>
              <a:avLst/>
              <a:gdLst/>
              <a:ahLst/>
              <a:rect l="l" t="t" r="r" b="b"/>
              <a:pathLst>
                <a:path w="336297" h="361189">
                  <a:moveTo>
                    <a:pt x="0" y="345567"/>
                  </a:moveTo>
                  <a:lnTo>
                    <a:pt x="160782" y="46736"/>
                  </a:lnTo>
                  <a:cubicBezTo>
                    <a:pt x="196723" y="5969"/>
                    <a:pt x="229489" y="0"/>
                    <a:pt x="278003" y="14859"/>
                  </a:cubicBezTo>
                  <a:lnTo>
                    <a:pt x="324993" y="63500"/>
                  </a:lnTo>
                  <a:cubicBezTo>
                    <a:pt x="336296" y="118110"/>
                    <a:pt x="331089" y="161290"/>
                    <a:pt x="302260" y="188341"/>
                  </a:cubicBezTo>
                  <a:lnTo>
                    <a:pt x="17780" y="359283"/>
                  </a:lnTo>
                  <a:cubicBezTo>
                    <a:pt x="8128" y="361188"/>
                    <a:pt x="1651" y="357378"/>
                    <a:pt x="0" y="345567"/>
                  </a:cubicBezTo>
                  <a:close/>
                </a:path>
              </a:pathLst>
            </a:custGeom>
            <a:solidFill>
              <a:srgbClr val="ab4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 type="dt" idx="7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254D4-08B9-4773-9347-32D22E930D9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PlaceHolder 4"/>
          <p:cNvSpPr>
            <a:spLocks noGrp="1"/>
          </p:cNvSpPr>
          <p:nvPr>
            <p:ph type="ftr" idx="7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08B9D-C0F9-43BB-8436-1442961325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9" name="组合 5"/>
          <p:cNvGrpSpPr/>
          <p:nvPr/>
        </p:nvGrpSpPr>
        <p:grpSpPr>
          <a:xfrm>
            <a:off x="8055360" y="5726160"/>
            <a:ext cx="1127520" cy="1042560"/>
            <a:chOff x="8055360" y="5726160"/>
            <a:chExt cx="1127520" cy="1042560"/>
          </a:xfrm>
        </p:grpSpPr>
        <p:grpSp>
          <p:nvGrpSpPr>
            <p:cNvPr id="1080" name="组合 43"/>
            <p:cNvGrpSpPr/>
            <p:nvPr/>
          </p:nvGrpSpPr>
          <p:grpSpPr>
            <a:xfrm>
              <a:off x="8456400" y="5726160"/>
              <a:ext cx="597240" cy="968040"/>
              <a:chOff x="8456400" y="5726160"/>
              <a:chExt cx="597240" cy="968040"/>
            </a:xfrm>
          </p:grpSpPr>
          <p:sp>
            <p:nvSpPr>
              <p:cNvPr id="1081" name="任意多边形: 形状 44"/>
              <p:cNvSpPr/>
              <p:nvPr/>
            </p:nvSpPr>
            <p:spPr>
              <a:xfrm rot="15514200">
                <a:off x="8594280" y="6329520"/>
                <a:ext cx="8424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2" name="任意多边形: 形状 45"/>
              <p:cNvSpPr/>
              <p:nvPr/>
            </p:nvSpPr>
            <p:spPr>
              <a:xfrm rot="15514200">
                <a:off x="8517240" y="5848200"/>
                <a:ext cx="544320" cy="42912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d0d0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3" name="任意多边形: 形状 46"/>
              <p:cNvSpPr/>
              <p:nvPr/>
            </p:nvSpPr>
            <p:spPr>
              <a:xfrm rot="15514200">
                <a:off x="8788320" y="5766480"/>
                <a:ext cx="22140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4" name="任意多边形: 形状 47"/>
              <p:cNvSpPr/>
              <p:nvPr/>
            </p:nvSpPr>
            <p:spPr>
              <a:xfrm rot="15514200">
                <a:off x="8577360" y="6071760"/>
                <a:ext cx="299160" cy="23832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5" name="任意多边形: 形状 48"/>
              <p:cNvSpPr/>
              <p:nvPr/>
            </p:nvSpPr>
            <p:spPr>
              <a:xfrm rot="15514200">
                <a:off x="8412120" y="6431400"/>
                <a:ext cx="322920" cy="17424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6" name="组合 39"/>
            <p:cNvGrpSpPr/>
            <p:nvPr/>
          </p:nvGrpSpPr>
          <p:grpSpPr>
            <a:xfrm>
              <a:off x="8055360" y="5863320"/>
              <a:ext cx="1127520" cy="905400"/>
              <a:chOff x="8055360" y="5863320"/>
              <a:chExt cx="1127520" cy="905400"/>
            </a:xfrm>
          </p:grpSpPr>
          <p:sp>
            <p:nvSpPr>
              <p:cNvPr id="1087" name="任意多边形: 形状 40"/>
              <p:cNvSpPr/>
              <p:nvPr/>
            </p:nvSpPr>
            <p:spPr>
              <a:xfrm rot="1966800">
                <a:off x="8485200" y="5952600"/>
                <a:ext cx="544320" cy="72648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8" name="任意多边形: 形状 41"/>
              <p:cNvSpPr/>
              <p:nvPr/>
            </p:nvSpPr>
            <p:spPr>
              <a:xfrm rot="1966800">
                <a:off x="8309160" y="644220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9" name="任意多边形: 形状 42"/>
              <p:cNvSpPr/>
              <p:nvPr/>
            </p:nvSpPr>
            <p:spPr>
              <a:xfrm rot="1966800">
                <a:off x="8109000" y="6428520"/>
                <a:ext cx="174240" cy="2491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 type="dt" idx="7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52103-C53B-4F2A-B588-EA6742B0BC6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 type="ftr" idx="7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 type="sldNum" idx="7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42745-B0FF-49D2-A7E9-416F4C20C9F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矩形 7"/>
          <p:cNvSpPr/>
          <p:nvPr/>
        </p:nvSpPr>
        <p:spPr>
          <a:xfrm>
            <a:off x="219240" y="304920"/>
            <a:ext cx="8705520" cy="6248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3" name="图片 24" descr=""/>
          <p:cNvPicPr/>
          <p:nvPr/>
        </p:nvPicPr>
        <p:blipFill>
          <a:blip r:embed="rId2"/>
          <a:stretch/>
        </p:blipFill>
        <p:spPr>
          <a:xfrm>
            <a:off x="7451640" y="476424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6" name="PlaceHolder 3"/>
          <p:cNvSpPr>
            <a:spLocks noGrp="1"/>
          </p:cNvSpPr>
          <p:nvPr>
            <p:ph type="dt" idx="7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A011C4-438D-4120-810E-58AEA01873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PlaceHolder 4"/>
          <p:cNvSpPr>
            <a:spLocks noGrp="1"/>
          </p:cNvSpPr>
          <p:nvPr>
            <p:ph type="ftr" idx="7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PlaceHolder 5"/>
          <p:cNvSpPr>
            <a:spLocks noGrp="1"/>
          </p:cNvSpPr>
          <p:nvPr>
            <p:ph type="sldNum" idx="7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3E7DE-4F03-4EE5-AC89-8CDBA62C3A6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矩形 7"/>
          <p:cNvSpPr/>
          <p:nvPr/>
        </p:nvSpPr>
        <p:spPr>
          <a:xfrm>
            <a:off x="0" y="0"/>
            <a:ext cx="3618000" cy="686592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7" name="组合 25"/>
          <p:cNvGrpSpPr/>
          <p:nvPr/>
        </p:nvGrpSpPr>
        <p:grpSpPr>
          <a:xfrm>
            <a:off x="186480" y="5384520"/>
            <a:ext cx="997920" cy="1126800"/>
            <a:chOff x="186480" y="5384520"/>
            <a:chExt cx="997920" cy="1126800"/>
          </a:xfrm>
        </p:grpSpPr>
        <p:grpSp>
          <p:nvGrpSpPr>
            <p:cNvPr id="1178" name="组合 43"/>
            <p:cNvGrpSpPr/>
            <p:nvPr/>
          </p:nvGrpSpPr>
          <p:grpSpPr>
            <a:xfrm>
              <a:off x="282600" y="5384520"/>
              <a:ext cx="617040" cy="1044360"/>
              <a:chOff x="282600" y="5384520"/>
              <a:chExt cx="617040" cy="1044360"/>
            </a:xfrm>
          </p:grpSpPr>
          <p:sp>
            <p:nvSpPr>
              <p:cNvPr id="1179" name="任意多边形: 形状 44"/>
              <p:cNvSpPr/>
              <p:nvPr/>
            </p:nvSpPr>
            <p:spPr>
              <a:xfrm flipH="1" rot="6865800">
                <a:off x="630720" y="6046200"/>
                <a:ext cx="84600" cy="6408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f7f7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7280" bIns="1728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0" name="任意多边形: 形状 45"/>
              <p:cNvSpPr/>
              <p:nvPr/>
            </p:nvSpPr>
            <p:spPr>
              <a:xfrm flipH="1" rot="6865800">
                <a:off x="318240" y="5536800"/>
                <a:ext cx="545400" cy="42984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1" name="任意多边形: 形状 46"/>
              <p:cNvSpPr/>
              <p:nvPr/>
            </p:nvSpPr>
            <p:spPr>
              <a:xfrm flipH="1" rot="6865800">
                <a:off x="420840" y="5435640"/>
                <a:ext cx="221760" cy="1702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f1f1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2" name="任意多边形: 形状 47"/>
              <p:cNvSpPr/>
              <p:nvPr/>
            </p:nvSpPr>
            <p:spPr>
              <a:xfrm flipH="1" rot="6865800">
                <a:off x="473400" y="5771160"/>
                <a:ext cx="299880" cy="2390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3" name="任意多边形: 形状 48"/>
              <p:cNvSpPr/>
              <p:nvPr/>
            </p:nvSpPr>
            <p:spPr>
              <a:xfrm flipH="1" rot="6865800">
                <a:off x="537120" y="6158520"/>
                <a:ext cx="323280" cy="17388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486f7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84" name="组合 39"/>
            <p:cNvGrpSpPr/>
            <p:nvPr/>
          </p:nvGrpSpPr>
          <p:grpSpPr>
            <a:xfrm>
              <a:off x="186480" y="5571720"/>
              <a:ext cx="997920" cy="939600"/>
              <a:chOff x="186480" y="5571720"/>
              <a:chExt cx="997920" cy="939600"/>
            </a:xfrm>
          </p:grpSpPr>
          <p:sp>
            <p:nvSpPr>
              <p:cNvPr id="1185" name="任意多边形: 形状 40"/>
              <p:cNvSpPr/>
              <p:nvPr/>
            </p:nvSpPr>
            <p:spPr>
              <a:xfrm flipH="1" rot="20413200">
                <a:off x="293400" y="5642280"/>
                <a:ext cx="544680" cy="72756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6" name="任意多边形: 形状 41"/>
              <p:cNvSpPr/>
              <p:nvPr/>
            </p:nvSpPr>
            <p:spPr>
              <a:xfrm flipH="1" rot="20413200">
                <a:off x="884880" y="6219720"/>
                <a:ext cx="78480" cy="10332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7" name="任意多边形: 形状 42"/>
              <p:cNvSpPr/>
              <p:nvPr/>
            </p:nvSpPr>
            <p:spPr>
              <a:xfrm flipH="1" rot="20413200">
                <a:off x="973080" y="6239520"/>
                <a:ext cx="174240" cy="2494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654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90" name="PlaceHolder 3"/>
          <p:cNvSpPr>
            <a:spLocks noGrp="1"/>
          </p:cNvSpPr>
          <p:nvPr>
            <p:ph type="dt" idx="7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5C44D-5599-493D-9F7C-A9A1002D64E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PlaceHolder 4"/>
          <p:cNvSpPr>
            <a:spLocks noGrp="1"/>
          </p:cNvSpPr>
          <p:nvPr>
            <p:ph type="ftr" idx="8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2" name="PlaceHolder 5"/>
          <p:cNvSpPr>
            <a:spLocks noGrp="1"/>
          </p:cNvSpPr>
          <p:nvPr>
            <p:ph type="sldNum" idx="8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58480-21BC-4958-9402-87386416EBE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矩形 9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1" name="图片 26" descr=""/>
          <p:cNvPicPr/>
          <p:nvPr/>
        </p:nvPicPr>
        <p:blipFill>
          <a:blip r:embed="rId2"/>
          <a:stretch/>
        </p:blipFill>
        <p:spPr>
          <a:xfrm>
            <a:off x="7684920" y="61920"/>
            <a:ext cx="1459080" cy="1596960"/>
          </a:xfrm>
          <a:prstGeom prst="rect">
            <a:avLst/>
          </a:prstGeom>
          <a:ln w="0">
            <a:noFill/>
          </a:ln>
        </p:spPr>
      </p:pic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3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4" name="PlaceHolder 3"/>
          <p:cNvSpPr>
            <a:spLocks noGrp="1"/>
          </p:cNvSpPr>
          <p:nvPr>
            <p:ph type="dt" idx="8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C49E7-6CE7-44D9-9090-C4B4BF4563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PlaceHolder 4"/>
          <p:cNvSpPr>
            <a:spLocks noGrp="1"/>
          </p:cNvSpPr>
          <p:nvPr>
            <p:ph type="ftr" idx="8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PlaceHolder 5"/>
          <p:cNvSpPr>
            <a:spLocks noGrp="1"/>
          </p:cNvSpPr>
          <p:nvPr>
            <p:ph type="sldNum" idx="8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10200-596C-42D1-B5EA-D5C3488514A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3"/>
    <p:sldLayoutId id="2147484001" r:id="rId4"/>
    <p:sldLayoutId id="2147484002" r:id="rId5"/>
    <p:sldLayoutId id="2147484003" r:id="rId6"/>
    <p:sldLayoutId id="2147484004" r:id="rId7"/>
    <p:sldLayoutId id="2147484005" r:id="rId8"/>
    <p:sldLayoutId id="2147484006" r:id="rId9"/>
    <p:sldLayoutId id="2147484007" r:id="rId10"/>
    <p:sldLayoutId id="2147484008" r:id="rId11"/>
    <p:sldLayoutId id="2147484009" r:id="rId12"/>
    <p:sldLayoutId id="2147484010" r:id="rId13"/>
    <p:sldLayoutId id="2147484011" r:id="rId14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3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矩形 7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75" name="组合 5"/>
          <p:cNvGrpSpPr/>
          <p:nvPr/>
        </p:nvGrpSpPr>
        <p:grpSpPr>
          <a:xfrm>
            <a:off x="364320" y="8280"/>
            <a:ext cx="1228680" cy="1545480"/>
            <a:chOff x="364320" y="8280"/>
            <a:chExt cx="1228680" cy="1545480"/>
          </a:xfrm>
        </p:grpSpPr>
        <p:grpSp>
          <p:nvGrpSpPr>
            <p:cNvPr id="1276" name="组合 9"/>
            <p:cNvGrpSpPr/>
            <p:nvPr/>
          </p:nvGrpSpPr>
          <p:grpSpPr>
            <a:xfrm>
              <a:off x="364320" y="8280"/>
              <a:ext cx="1228680" cy="1545480"/>
              <a:chOff x="364320" y="8280"/>
              <a:chExt cx="1228680" cy="1545480"/>
            </a:xfrm>
          </p:grpSpPr>
          <p:sp>
            <p:nvSpPr>
              <p:cNvPr id="1277" name="任意多边形: 形状 51"/>
              <p:cNvSpPr/>
              <p:nvPr/>
            </p:nvSpPr>
            <p:spPr>
              <a:xfrm rot="302400">
                <a:off x="694800" y="43200"/>
                <a:ext cx="849600" cy="11354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任意多边形: 形状 52"/>
              <p:cNvSpPr/>
              <p:nvPr/>
            </p:nvSpPr>
            <p:spPr>
              <a:xfrm rot="302400">
                <a:off x="623160" y="1073520"/>
                <a:ext cx="122760" cy="16164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任意多边形: 形状 53"/>
              <p:cNvSpPr/>
              <p:nvPr/>
            </p:nvSpPr>
            <p:spPr>
              <a:xfrm rot="302400">
                <a:off x="380880" y="1153080"/>
                <a:ext cx="272160" cy="38952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80" name="组合 32"/>
            <p:cNvGrpSpPr/>
            <p:nvPr/>
          </p:nvGrpSpPr>
          <p:grpSpPr>
            <a:xfrm>
              <a:off x="925920" y="409680"/>
              <a:ext cx="403560" cy="864720"/>
              <a:chOff x="925920" y="409680"/>
              <a:chExt cx="403560" cy="864720"/>
            </a:xfrm>
          </p:grpSpPr>
          <p:sp>
            <p:nvSpPr>
              <p:cNvPr id="1281" name="矩形 29"/>
              <p:cNvSpPr/>
              <p:nvPr/>
            </p:nvSpPr>
            <p:spPr>
              <a:xfrm>
                <a:off x="983520" y="409680"/>
                <a:ext cx="283320" cy="203400"/>
              </a:xfrm>
              <a:prstGeom prst="rect">
                <a:avLst/>
              </a:pr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2" name="任意多边形: 形状 30"/>
              <p:cNvSpPr/>
              <p:nvPr/>
            </p:nvSpPr>
            <p:spPr>
              <a:xfrm>
                <a:off x="930600" y="609840"/>
                <a:ext cx="398880" cy="664560"/>
              </a:xfrm>
              <a:custGeom>
                <a:avLst/>
                <a:gdLst/>
                <a:ahLst/>
                <a:rect l="l" t="t" r="r" b="b"/>
                <a:pathLst>
                  <a:path w="343790" h="430150">
                    <a:moveTo>
                      <a:pt x="0" y="67056"/>
                    </a:moveTo>
                    <a:cubicBezTo>
                      <a:pt x="24256" y="54102"/>
                      <a:pt x="58928" y="25654"/>
                      <a:pt x="75692" y="0"/>
                    </a:cubicBezTo>
                    <a:lnTo>
                      <a:pt x="259969" y="0"/>
                    </a:lnTo>
                    <a:cubicBezTo>
                      <a:pt x="278638" y="29464"/>
                      <a:pt x="316738" y="53467"/>
                      <a:pt x="343789" y="67056"/>
                    </a:cubicBezTo>
                    <a:lnTo>
                      <a:pt x="343789" y="389128"/>
                    </a:lnTo>
                    <a:cubicBezTo>
                      <a:pt x="334518" y="414528"/>
                      <a:pt x="326517" y="424307"/>
                      <a:pt x="302768" y="430149"/>
                    </a:cubicBezTo>
                    <a:lnTo>
                      <a:pt x="33528" y="430149"/>
                    </a:lnTo>
                    <a:cubicBezTo>
                      <a:pt x="17018" y="427101"/>
                      <a:pt x="5969" y="415417"/>
                      <a:pt x="0" y="395605"/>
                    </a:cubicBezTo>
                    <a:cubicBezTo>
                      <a:pt x="0" y="281051"/>
                      <a:pt x="0" y="120015"/>
                      <a:pt x="0" y="67056"/>
                    </a:cubicBezTo>
                    <a:close/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3" name="任意多边形: 形状 31"/>
              <p:cNvSpPr/>
              <p:nvPr/>
            </p:nvSpPr>
            <p:spPr>
              <a:xfrm>
                <a:off x="925920" y="856080"/>
                <a:ext cx="403560" cy="190440"/>
              </a:xfrm>
              <a:custGeom>
                <a:avLst/>
                <a:gdLst/>
                <a:ahLst/>
                <a:rect l="l" t="t" r="r" b="b"/>
                <a:pathLst>
                  <a:path w="348108" h="123318">
                    <a:moveTo>
                      <a:pt x="0" y="0"/>
                    </a:moveTo>
                    <a:lnTo>
                      <a:pt x="348107" y="0"/>
                    </a:lnTo>
                    <a:lnTo>
                      <a:pt x="348107" y="123317"/>
                    </a:lnTo>
                    <a:lnTo>
                      <a:pt x="0" y="108712"/>
                    </a:lnTo>
                  </a:path>
                </a:pathLst>
              </a:custGeom>
              <a:solidFill>
                <a:srgbClr val="80378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5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86" name="PlaceHolder 3"/>
          <p:cNvSpPr>
            <a:spLocks noGrp="1"/>
          </p:cNvSpPr>
          <p:nvPr>
            <p:ph type="dt" idx="8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97694-E491-4FEC-BE34-7C74172205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PlaceHolder 4"/>
          <p:cNvSpPr>
            <a:spLocks noGrp="1"/>
          </p:cNvSpPr>
          <p:nvPr>
            <p:ph type="ftr" idx="8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8" name="PlaceHolder 5"/>
          <p:cNvSpPr>
            <a:spLocks noGrp="1"/>
          </p:cNvSpPr>
          <p:nvPr>
            <p:ph type="sldNum" idx="8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78220A-32DB-49CF-AB02-A5982D908E3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7EE36-1299-4DB6-B8E9-BFC533123D8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6" name="矩形 9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7" name="图片 31" descr=""/>
          <p:cNvPicPr/>
          <p:nvPr/>
        </p:nvPicPr>
        <p:blipFill>
          <a:blip r:embed="rId2"/>
          <a:stretch/>
        </p:blipFill>
        <p:spPr>
          <a:xfrm>
            <a:off x="8137440" y="5435640"/>
            <a:ext cx="831960" cy="1073160"/>
          </a:xfrm>
          <a:prstGeom prst="rect">
            <a:avLst/>
          </a:prstGeom>
          <a:ln w="0">
            <a:noFill/>
          </a:ln>
        </p:spPr>
      </p:pic>
      <p:sp>
        <p:nvSpPr>
          <p:cNvPr id="13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29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30" name="PlaceHolder 3"/>
          <p:cNvSpPr>
            <a:spLocks noGrp="1"/>
          </p:cNvSpPr>
          <p:nvPr>
            <p:ph type="dt" idx="8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79E3C-1790-4CC3-8468-7F8DCAC12D2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PlaceHolder 4"/>
          <p:cNvSpPr>
            <a:spLocks noGrp="1"/>
          </p:cNvSpPr>
          <p:nvPr>
            <p:ph type="ftr" idx="8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2" name="PlaceHolder 5"/>
          <p:cNvSpPr>
            <a:spLocks noGrp="1"/>
          </p:cNvSpPr>
          <p:nvPr>
            <p:ph type="sldNum" idx="9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134E1-FC00-4F1F-8CF6-CD651BC49FE7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3"/>
    <p:sldLayoutId id="2147484027" r:id="rId4"/>
    <p:sldLayoutId id="2147484028" r:id="rId5"/>
    <p:sldLayoutId id="2147484029" r:id="rId6"/>
    <p:sldLayoutId id="2147484030" r:id="rId7"/>
    <p:sldLayoutId id="2147484031" r:id="rId8"/>
    <p:sldLayoutId id="2147484032" r:id="rId9"/>
    <p:sldLayoutId id="2147484033" r:id="rId10"/>
    <p:sldLayoutId id="2147484034" r:id="rId11"/>
    <p:sldLayoutId id="2147484035" r:id="rId12"/>
    <p:sldLayoutId id="2147484036" r:id="rId13"/>
    <p:sldLayoutId id="2147484037" r:id="rId14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2f2f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50a6a4"/>
          </a:solidFill>
          <a:ln w="12600">
            <a:solidFill>
              <a:srgbClr val="3879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0" name="矩形 9"/>
          <p:cNvSpPr/>
          <p:nvPr/>
        </p:nvSpPr>
        <p:spPr>
          <a:xfrm>
            <a:off x="0" y="958680"/>
            <a:ext cx="9144000" cy="4940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1" name="组合 28"/>
          <p:cNvGrpSpPr/>
          <p:nvPr/>
        </p:nvGrpSpPr>
        <p:grpSpPr>
          <a:xfrm>
            <a:off x="-25920" y="-508680"/>
            <a:ext cx="2134080" cy="2967480"/>
            <a:chOff x="-25920" y="-508680"/>
            <a:chExt cx="2134080" cy="2967480"/>
          </a:xfrm>
        </p:grpSpPr>
        <p:grpSp>
          <p:nvGrpSpPr>
            <p:cNvPr id="1372" name="组合 32"/>
            <p:cNvGrpSpPr/>
            <p:nvPr/>
          </p:nvGrpSpPr>
          <p:grpSpPr>
            <a:xfrm>
              <a:off x="287640" y="-508680"/>
              <a:ext cx="964440" cy="2967480"/>
              <a:chOff x="287640" y="-508680"/>
              <a:chExt cx="964440" cy="2967480"/>
            </a:xfrm>
          </p:grpSpPr>
          <p:sp>
            <p:nvSpPr>
              <p:cNvPr id="1373" name="矩形 31"/>
              <p:cNvSpPr/>
              <p:nvPr/>
            </p:nvSpPr>
            <p:spPr>
              <a:xfrm rot="21010800">
                <a:off x="557640" y="-488160"/>
                <a:ext cx="438840" cy="2927160"/>
              </a:xfrm>
              <a:prstGeom prst="rect">
                <a:avLst/>
              </a:prstGeom>
              <a:solidFill>
                <a:srgbClr val="50a6a4"/>
              </a:solidFill>
              <a:ln w="12600">
                <a:solidFill>
                  <a:srgbClr val="38797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74" name="组合 23"/>
              <p:cNvGrpSpPr/>
              <p:nvPr/>
            </p:nvGrpSpPr>
            <p:grpSpPr>
              <a:xfrm>
                <a:off x="287640" y="-508680"/>
                <a:ext cx="964440" cy="2967480"/>
                <a:chOff x="287640" y="-508680"/>
                <a:chExt cx="964440" cy="2967480"/>
              </a:xfrm>
            </p:grpSpPr>
            <p:sp>
              <p:nvSpPr>
                <p:cNvPr id="1375" name="任意多边形: 形状 24"/>
                <p:cNvSpPr/>
                <p:nvPr/>
              </p:nvSpPr>
              <p:spPr>
                <a:xfrm rot="21010800">
                  <a:off x="537840" y="-48996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6" h="13714101">
                      <a:moveTo>
                        <a:pt x="0" y="464057"/>
                      </a:moveTo>
                      <a:lnTo>
                        <a:pt x="0" y="1700784"/>
                      </a:lnTo>
                      <a:lnTo>
                        <a:pt x="816229" y="1700784"/>
                      </a:lnTo>
                      <a:cubicBezTo>
                        <a:pt x="919481" y="1700784"/>
                        <a:pt x="919353" y="1860930"/>
                        <a:pt x="816229" y="1860930"/>
                      </a:cubicBezTo>
                      <a:lnTo>
                        <a:pt x="0" y="1860930"/>
                      </a:lnTo>
                      <a:lnTo>
                        <a:pt x="0" y="3330447"/>
                      </a:lnTo>
                      <a:lnTo>
                        <a:pt x="816229" y="3330447"/>
                      </a:lnTo>
                      <a:cubicBezTo>
                        <a:pt x="919481" y="3330447"/>
                        <a:pt x="919353" y="3490594"/>
                        <a:pt x="816229" y="3490594"/>
                      </a:cubicBezTo>
                      <a:lnTo>
                        <a:pt x="0" y="3490594"/>
                      </a:lnTo>
                      <a:lnTo>
                        <a:pt x="0" y="4893562"/>
                      </a:lnTo>
                      <a:lnTo>
                        <a:pt x="849503" y="4893562"/>
                      </a:lnTo>
                      <a:cubicBezTo>
                        <a:pt x="952754" y="4893562"/>
                        <a:pt x="952627" y="5053709"/>
                        <a:pt x="849503" y="5053709"/>
                      </a:cubicBezTo>
                      <a:lnTo>
                        <a:pt x="0" y="5053709"/>
                      </a:lnTo>
                      <a:lnTo>
                        <a:pt x="0" y="6589775"/>
                      </a:lnTo>
                      <a:lnTo>
                        <a:pt x="749682" y="6589775"/>
                      </a:lnTo>
                      <a:cubicBezTo>
                        <a:pt x="852933" y="6589775"/>
                        <a:pt x="852806" y="6749923"/>
                        <a:pt x="749682" y="6749923"/>
                      </a:cubicBezTo>
                      <a:lnTo>
                        <a:pt x="0" y="6749923"/>
                      </a:lnTo>
                      <a:lnTo>
                        <a:pt x="0" y="8019923"/>
                      </a:lnTo>
                      <a:lnTo>
                        <a:pt x="816229" y="8019923"/>
                      </a:lnTo>
                      <a:cubicBezTo>
                        <a:pt x="919481" y="8019923"/>
                        <a:pt x="919353" y="8180072"/>
                        <a:pt x="816229" y="8180072"/>
                      </a:cubicBezTo>
                      <a:lnTo>
                        <a:pt x="0" y="8180072"/>
                      </a:lnTo>
                      <a:lnTo>
                        <a:pt x="0" y="9749412"/>
                      </a:lnTo>
                      <a:lnTo>
                        <a:pt x="816229" y="9749412"/>
                      </a:lnTo>
                      <a:cubicBezTo>
                        <a:pt x="919481" y="9749412"/>
                        <a:pt x="919353" y="9909560"/>
                        <a:pt x="816229" y="9909560"/>
                      </a:cubicBezTo>
                      <a:lnTo>
                        <a:pt x="0" y="9909560"/>
                      </a:lnTo>
                      <a:lnTo>
                        <a:pt x="0" y="11312529"/>
                      </a:lnTo>
                      <a:lnTo>
                        <a:pt x="816229" y="11312529"/>
                      </a:lnTo>
                      <a:cubicBezTo>
                        <a:pt x="919481" y="11312529"/>
                        <a:pt x="919353" y="11472677"/>
                        <a:pt x="816229" y="11472677"/>
                      </a:cubicBezTo>
                      <a:lnTo>
                        <a:pt x="0" y="11472677"/>
                      </a:lnTo>
                      <a:lnTo>
                        <a:pt x="0" y="13008741"/>
                      </a:lnTo>
                      <a:lnTo>
                        <a:pt x="849503" y="13008741"/>
                      </a:lnTo>
                      <a:cubicBezTo>
                        <a:pt x="952754" y="13008741"/>
                        <a:pt x="952627" y="13168890"/>
                        <a:pt x="849503" y="13168890"/>
                      </a:cubicBezTo>
                      <a:lnTo>
                        <a:pt x="0" y="13168890"/>
                      </a:lnTo>
                      <a:lnTo>
                        <a:pt x="0" y="13714100"/>
                      </a:lnTo>
                      <a:lnTo>
                        <a:pt x="2918715" y="13714100"/>
                      </a:lnTo>
                      <a:lnTo>
                        <a:pt x="2918715" y="0"/>
                      </a:lnTo>
                      <a:lnTo>
                        <a:pt x="0" y="0"/>
                      </a:lnTo>
                      <a:lnTo>
                        <a:pt x="0" y="303785"/>
                      </a:lnTo>
                    </a:path>
                  </a:pathLst>
                </a:cu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6" name="任意多边形: 形状 25"/>
                <p:cNvSpPr/>
                <p:nvPr/>
              </p:nvSpPr>
              <p:spPr>
                <a:xfrm rot="21010800">
                  <a:off x="533880" y="-488520"/>
                  <a:ext cx="467280" cy="2928960"/>
                </a:xfrm>
                <a:custGeom>
                  <a:avLst/>
                  <a:gdLst/>
                  <a:ahLst/>
                  <a:rect l="l" t="t" r="r" b="b"/>
                  <a:pathLst>
                    <a:path w="2918714" h="13714477">
                      <a:moveTo>
                        <a:pt x="2918586" y="13250040"/>
                      </a:moveTo>
                      <a:lnTo>
                        <a:pt x="2918586" y="12013315"/>
                      </a:lnTo>
                      <a:lnTo>
                        <a:pt x="2102357" y="12013315"/>
                      </a:lnTo>
                      <a:cubicBezTo>
                        <a:pt x="1999106" y="12013315"/>
                        <a:pt x="1999233" y="11853167"/>
                        <a:pt x="2102357" y="11853167"/>
                      </a:cubicBezTo>
                      <a:lnTo>
                        <a:pt x="2918586" y="11853167"/>
                      </a:lnTo>
                      <a:lnTo>
                        <a:pt x="2918586" y="10383650"/>
                      </a:lnTo>
                      <a:lnTo>
                        <a:pt x="2102357" y="10383650"/>
                      </a:lnTo>
                      <a:cubicBezTo>
                        <a:pt x="1999106" y="10383650"/>
                        <a:pt x="1999233" y="10223502"/>
                        <a:pt x="2102357" y="10223502"/>
                      </a:cubicBezTo>
                      <a:lnTo>
                        <a:pt x="2918586" y="10223502"/>
                      </a:lnTo>
                      <a:lnTo>
                        <a:pt x="2918586" y="8820533"/>
                      </a:lnTo>
                      <a:lnTo>
                        <a:pt x="2069083" y="8820533"/>
                      </a:lnTo>
                      <a:cubicBezTo>
                        <a:pt x="1965832" y="8820533"/>
                        <a:pt x="1965959" y="8660385"/>
                        <a:pt x="2069083" y="8660385"/>
                      </a:cubicBezTo>
                      <a:lnTo>
                        <a:pt x="2918586" y="8660385"/>
                      </a:lnTo>
                      <a:lnTo>
                        <a:pt x="2918586" y="7124320"/>
                      </a:lnTo>
                      <a:lnTo>
                        <a:pt x="2168905" y="7124320"/>
                      </a:lnTo>
                      <a:cubicBezTo>
                        <a:pt x="2065654" y="7124320"/>
                        <a:pt x="2065781" y="6964172"/>
                        <a:pt x="2168905" y="6964172"/>
                      </a:cubicBezTo>
                      <a:lnTo>
                        <a:pt x="2918586" y="6964172"/>
                      </a:lnTo>
                      <a:lnTo>
                        <a:pt x="2918586" y="5694172"/>
                      </a:lnTo>
                      <a:lnTo>
                        <a:pt x="2102357" y="5694172"/>
                      </a:lnTo>
                      <a:cubicBezTo>
                        <a:pt x="1999106" y="5694172"/>
                        <a:pt x="1999233" y="5534024"/>
                        <a:pt x="2102357" y="5534024"/>
                      </a:cubicBezTo>
                      <a:lnTo>
                        <a:pt x="2918586" y="5534024"/>
                      </a:lnTo>
                      <a:lnTo>
                        <a:pt x="2918586" y="3964685"/>
                      </a:lnTo>
                      <a:lnTo>
                        <a:pt x="2102357" y="3964685"/>
                      </a:lnTo>
                      <a:cubicBezTo>
                        <a:pt x="1999106" y="3964685"/>
                        <a:pt x="1999233" y="3804539"/>
                        <a:pt x="2102357" y="3804539"/>
                      </a:cubicBezTo>
                      <a:lnTo>
                        <a:pt x="2918586" y="3804539"/>
                      </a:lnTo>
                      <a:lnTo>
                        <a:pt x="2918586" y="2401570"/>
                      </a:lnTo>
                      <a:lnTo>
                        <a:pt x="2102357" y="2401570"/>
                      </a:lnTo>
                      <a:cubicBezTo>
                        <a:pt x="1999106" y="2401570"/>
                        <a:pt x="1999233" y="2241423"/>
                        <a:pt x="2102357" y="2241423"/>
                      </a:cubicBezTo>
                      <a:lnTo>
                        <a:pt x="2918586" y="2241423"/>
                      </a:lnTo>
                      <a:lnTo>
                        <a:pt x="2918586" y="705359"/>
                      </a:lnTo>
                      <a:lnTo>
                        <a:pt x="2069083" y="705359"/>
                      </a:lnTo>
                      <a:cubicBezTo>
                        <a:pt x="1965832" y="705359"/>
                        <a:pt x="1965959" y="545212"/>
                        <a:pt x="2069083" y="545212"/>
                      </a:cubicBezTo>
                      <a:lnTo>
                        <a:pt x="2918586" y="545212"/>
                      </a:lnTo>
                      <a:lnTo>
                        <a:pt x="2918586" y="0"/>
                      </a:lnTo>
                      <a:lnTo>
                        <a:pt x="0" y="0"/>
                      </a:lnTo>
                      <a:lnTo>
                        <a:pt x="0" y="13714476"/>
                      </a:lnTo>
                      <a:lnTo>
                        <a:pt x="2918713" y="13714476"/>
                      </a:lnTo>
                      <a:lnTo>
                        <a:pt x="2918713" y="13410693"/>
                      </a:lnTo>
                    </a:path>
                  </a:pathLst>
                </a:custGeom>
                <a:solidFill>
                  <a:srgbClr val="ab49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7" name="组合 37"/>
            <p:cNvGrpSpPr/>
            <p:nvPr/>
          </p:nvGrpSpPr>
          <p:grpSpPr>
            <a:xfrm>
              <a:off x="-25920" y="-350280"/>
              <a:ext cx="2134080" cy="2650320"/>
              <a:chOff x="-25920" y="-350280"/>
              <a:chExt cx="2134080" cy="2650320"/>
            </a:xfrm>
          </p:grpSpPr>
          <p:sp>
            <p:nvSpPr>
              <p:cNvPr id="1378" name="任意多边形: 形状 36"/>
              <p:cNvSpPr/>
              <p:nvPr/>
            </p:nvSpPr>
            <p:spPr>
              <a:xfrm rot="19390200">
                <a:off x="19800" y="983880"/>
                <a:ext cx="2127240" cy="278640"/>
              </a:xfrm>
              <a:custGeom>
                <a:avLst/>
                <a:gdLst/>
                <a:ahLst/>
                <a:rect l="l" t="t" r="r" b="b"/>
                <a:pathLst>
                  <a:path w="2293620" h="225417">
                    <a:moveTo>
                      <a:pt x="0" y="0"/>
                    </a:moveTo>
                    <a:lnTo>
                      <a:pt x="2293620" y="0"/>
                    </a:lnTo>
                    <a:lnTo>
                      <a:pt x="2293620" y="225417"/>
                    </a:lnTo>
                    <a:lnTo>
                      <a:pt x="46155" y="225417"/>
                    </a:lnTo>
                    <a:lnTo>
                      <a:pt x="46155" y="116518"/>
                    </a:lnTo>
                    <a:lnTo>
                      <a:pt x="0" y="11651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9" name="PA_ImportSvg_637165986937551442"/>
              <p:cNvSpPr/>
              <p:nvPr/>
            </p:nvSpPr>
            <p:spPr>
              <a:xfrm rot="477000">
                <a:off x="132840" y="-236160"/>
                <a:ext cx="1816200" cy="2422440"/>
              </a:xfrm>
              <a:custGeom>
                <a:avLst/>
                <a:gdLst/>
                <a:ahLst/>
                <a:rect l="l" t="t" r="r" b="b"/>
                <a:pathLst>
                  <a:path w="10332213" h="10332213">
                    <a:moveTo>
                      <a:pt x="0" y="10332214"/>
                    </a:moveTo>
                    <a:lnTo>
                      <a:pt x="10332211" y="10332214"/>
                    </a:lnTo>
                    <a:lnTo>
                      <a:pt x="10332211" y="1"/>
                    </a:lnTo>
                    <a:lnTo>
                      <a:pt x="8666734" y="1665478"/>
                    </a:lnTo>
                    <a:cubicBezTo>
                      <a:pt x="8885936" y="1870709"/>
                      <a:pt x="9090026" y="2091564"/>
                      <a:pt x="9315197" y="2290572"/>
                    </a:cubicBezTo>
                    <a:cubicBezTo>
                      <a:pt x="9391905" y="2358391"/>
                      <a:pt x="9279255" y="2470402"/>
                      <a:pt x="9202928" y="2402841"/>
                    </a:cubicBezTo>
                    <a:cubicBezTo>
                      <a:pt x="8977757" y="2203833"/>
                      <a:pt x="8773667" y="1982978"/>
                      <a:pt x="8554465" y="1777747"/>
                    </a:cubicBezTo>
                    <a:lnTo>
                      <a:pt x="7738617" y="2593595"/>
                    </a:lnTo>
                    <a:cubicBezTo>
                      <a:pt x="7912352" y="2767330"/>
                      <a:pt x="8086218" y="2941195"/>
                      <a:pt x="8259953" y="3114930"/>
                    </a:cubicBezTo>
                    <a:cubicBezTo>
                      <a:pt x="8332342" y="3187320"/>
                      <a:pt x="8220076" y="3299589"/>
                      <a:pt x="8147684" y="3227200"/>
                    </a:cubicBezTo>
                    <a:cubicBezTo>
                      <a:pt x="7973949" y="3053464"/>
                      <a:pt x="7800083" y="2879599"/>
                      <a:pt x="7626348" y="2705864"/>
                    </a:cubicBezTo>
                    <a:lnTo>
                      <a:pt x="6699884" y="3632328"/>
                    </a:lnTo>
                    <a:lnTo>
                      <a:pt x="7138796" y="4071241"/>
                    </a:lnTo>
                    <a:cubicBezTo>
                      <a:pt x="7211186" y="4143630"/>
                      <a:pt x="7098920" y="4255900"/>
                      <a:pt x="7026527" y="4183510"/>
                    </a:cubicBezTo>
                    <a:lnTo>
                      <a:pt x="6587615" y="3744597"/>
                    </a:lnTo>
                    <a:lnTo>
                      <a:pt x="5708140" y="4624072"/>
                    </a:lnTo>
                    <a:cubicBezTo>
                      <a:pt x="5883907" y="4806951"/>
                      <a:pt x="6058152" y="4991228"/>
                      <a:pt x="6248398" y="5159376"/>
                    </a:cubicBezTo>
                    <a:cubicBezTo>
                      <a:pt x="6325107" y="5227195"/>
                      <a:pt x="6212458" y="5339207"/>
                      <a:pt x="6136130" y="5271645"/>
                    </a:cubicBezTo>
                    <a:cubicBezTo>
                      <a:pt x="5945758" y="5103370"/>
                      <a:pt x="5771514" y="4919220"/>
                      <a:pt x="5595872" y="4736342"/>
                    </a:cubicBezTo>
                    <a:lnTo>
                      <a:pt x="4454396" y="5877816"/>
                    </a:lnTo>
                    <a:cubicBezTo>
                      <a:pt x="4652009" y="6082793"/>
                      <a:pt x="4849111" y="6288281"/>
                      <a:pt x="5061329" y="6478400"/>
                    </a:cubicBezTo>
                    <a:cubicBezTo>
                      <a:pt x="5137657" y="6546724"/>
                      <a:pt x="5025008" y="6658739"/>
                      <a:pt x="4949062" y="6590669"/>
                    </a:cubicBezTo>
                    <a:cubicBezTo>
                      <a:pt x="4736845" y="6400550"/>
                      <a:pt x="4539741" y="6194938"/>
                      <a:pt x="4342128" y="5990085"/>
                    </a:cubicBezTo>
                    <a:lnTo>
                      <a:pt x="3370960" y="6961254"/>
                    </a:lnTo>
                    <a:lnTo>
                      <a:pt x="3142614" y="7189600"/>
                    </a:lnTo>
                    <a:cubicBezTo>
                      <a:pt x="3332099" y="7369558"/>
                      <a:pt x="3524122" y="7547103"/>
                      <a:pt x="3709415" y="7731508"/>
                    </a:cubicBezTo>
                    <a:cubicBezTo>
                      <a:pt x="3781932" y="7803770"/>
                      <a:pt x="3669664" y="7916039"/>
                      <a:pt x="3597147" y="7843777"/>
                    </a:cubicBezTo>
                    <a:cubicBezTo>
                      <a:pt x="3411855" y="7659372"/>
                      <a:pt x="3219958" y="7481954"/>
                      <a:pt x="3030346" y="7301869"/>
                    </a:cubicBezTo>
                    <a:lnTo>
                      <a:pt x="2017394" y="8314821"/>
                    </a:lnTo>
                    <a:cubicBezTo>
                      <a:pt x="2185669" y="8483096"/>
                      <a:pt x="2353944" y="8651371"/>
                      <a:pt x="2522219" y="8819646"/>
                    </a:cubicBezTo>
                    <a:cubicBezTo>
                      <a:pt x="2594609" y="8892035"/>
                      <a:pt x="2482341" y="9004304"/>
                      <a:pt x="2409952" y="8931915"/>
                    </a:cubicBezTo>
                    <a:lnTo>
                      <a:pt x="1905127" y="8427090"/>
                    </a:lnTo>
                    <a:lnTo>
                      <a:pt x="959231" y="9372986"/>
                    </a:lnTo>
                    <a:cubicBezTo>
                      <a:pt x="1112901" y="9534021"/>
                      <a:pt x="1265809" y="9695819"/>
                      <a:pt x="1434084" y="9841869"/>
                    </a:cubicBezTo>
                    <a:cubicBezTo>
                      <a:pt x="1511427" y="9909052"/>
                      <a:pt x="1398651" y="10020940"/>
                      <a:pt x="1321817" y="9954138"/>
                    </a:cubicBezTo>
                    <a:cubicBezTo>
                      <a:pt x="1153542" y="9808088"/>
                      <a:pt x="1000633" y="9646290"/>
                      <a:pt x="846963" y="9485255"/>
                    </a:cubicBezTo>
                    <a:close/>
                    <a:moveTo>
                      <a:pt x="3893438" y="8704199"/>
                    </a:moveTo>
                    <a:lnTo>
                      <a:pt x="8986518" y="3611117"/>
                    </a:lnTo>
                    <a:lnTo>
                      <a:pt x="8986518" y="8704199"/>
                    </a:lnTo>
                    <a:close/>
                  </a:path>
                </a:pathLst>
              </a:custGeom>
              <a:solidFill>
                <a:srgbClr val="6293a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68760" rIns="68760" tIns="34200" bIns="342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80" name="组合 5"/>
          <p:cNvGrpSpPr/>
          <p:nvPr/>
        </p:nvGrpSpPr>
        <p:grpSpPr>
          <a:xfrm>
            <a:off x="7144920" y="4415400"/>
            <a:ext cx="2348280" cy="2297160"/>
            <a:chOff x="7144920" y="4415400"/>
            <a:chExt cx="2348280" cy="2297160"/>
          </a:xfrm>
        </p:grpSpPr>
        <p:grpSp>
          <p:nvGrpSpPr>
            <p:cNvPr id="1381" name="组合 49"/>
            <p:cNvGrpSpPr/>
            <p:nvPr/>
          </p:nvGrpSpPr>
          <p:grpSpPr>
            <a:xfrm>
              <a:off x="7653240" y="4415400"/>
              <a:ext cx="1362960" cy="2297160"/>
              <a:chOff x="7653240" y="4415400"/>
              <a:chExt cx="1362960" cy="2297160"/>
            </a:xfrm>
          </p:grpSpPr>
          <p:sp>
            <p:nvSpPr>
              <p:cNvPr id="1382" name="任意多边形: 形状 54"/>
              <p:cNvSpPr/>
              <p:nvPr/>
            </p:nvSpPr>
            <p:spPr>
              <a:xfrm rot="14680200">
                <a:off x="8074800" y="5871960"/>
                <a:ext cx="185400" cy="140760"/>
              </a:xfrm>
              <a:custGeom>
                <a:avLst/>
                <a:gdLst/>
                <a:ahLst/>
                <a:rect l="l" t="t" r="r" b="b"/>
                <a:pathLst>
                  <a:path w="102616" h="103759">
                    <a:moveTo>
                      <a:pt x="0" y="61595"/>
                    </a:moveTo>
                    <a:lnTo>
                      <a:pt x="61595" y="0"/>
                    </a:lnTo>
                    <a:lnTo>
                      <a:pt x="102616" y="40005"/>
                    </a:lnTo>
                    <a:lnTo>
                      <a:pt x="39878" y="103759"/>
                    </a:lnTo>
                    <a:lnTo>
                      <a:pt x="0" y="61595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3" name="任意多边形: 形状 55"/>
              <p:cNvSpPr/>
              <p:nvPr/>
            </p:nvSpPr>
            <p:spPr>
              <a:xfrm rot="14680200">
                <a:off x="7736400" y="4752720"/>
                <a:ext cx="1196280" cy="941760"/>
              </a:xfrm>
              <a:custGeom>
                <a:avLst/>
                <a:gdLst/>
                <a:ahLst/>
                <a:rect l="l" t="t" r="r" b="b"/>
                <a:pathLst>
                  <a:path w="661543" h="693928">
                    <a:moveTo>
                      <a:pt x="11430" y="181610"/>
                    </a:moveTo>
                    <a:lnTo>
                      <a:pt x="0" y="60579"/>
                    </a:lnTo>
                    <a:lnTo>
                      <a:pt x="57404" y="0"/>
                    </a:lnTo>
                    <a:lnTo>
                      <a:pt x="168656" y="8636"/>
                    </a:lnTo>
                    <a:lnTo>
                      <a:pt x="661543" y="445389"/>
                    </a:lnTo>
                    <a:lnTo>
                      <a:pt x="421640" y="693928"/>
                    </a:lnTo>
                    <a:lnTo>
                      <a:pt x="11430" y="181610"/>
                    </a:lnTo>
                  </a:path>
                </a:pathLst>
              </a:custGeom>
              <a:solidFill>
                <a:srgbClr val="b8ddd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4" name="任意多边形: 形状 56"/>
              <p:cNvSpPr/>
              <p:nvPr/>
            </p:nvSpPr>
            <p:spPr>
              <a:xfrm rot="14680200">
                <a:off x="8213400" y="4528080"/>
                <a:ext cx="486720" cy="373680"/>
              </a:xfrm>
              <a:custGeom>
                <a:avLst/>
                <a:gdLst/>
                <a:ahLst/>
                <a:rect l="l" t="t" r="r" b="b"/>
                <a:pathLst>
                  <a:path w="269113" h="275590">
                    <a:moveTo>
                      <a:pt x="269113" y="32512"/>
                    </a:moveTo>
                    <a:lnTo>
                      <a:pt x="239903" y="0"/>
                    </a:lnTo>
                    <a:lnTo>
                      <a:pt x="0" y="243205"/>
                    </a:lnTo>
                    <a:lnTo>
                      <a:pt x="32385" y="275590"/>
                    </a:lnTo>
                    <a:lnTo>
                      <a:pt x="269113" y="32512"/>
                    </a:lnTo>
                  </a:path>
                </a:pathLst>
              </a:custGeom>
              <a:solidFill>
                <a:srgbClr val="dbeee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5" name="任意多边形: 形状 57"/>
              <p:cNvSpPr/>
              <p:nvPr/>
            </p:nvSpPr>
            <p:spPr>
              <a:xfrm rot="14680200">
                <a:off x="7940520" y="5267880"/>
                <a:ext cx="657720" cy="523440"/>
              </a:xfrm>
              <a:custGeom>
                <a:avLst/>
                <a:gdLst/>
                <a:ahLst/>
                <a:rect l="l" t="t" r="r" b="b"/>
                <a:pathLst>
                  <a:path w="363728" h="385826">
                    <a:moveTo>
                      <a:pt x="363728" y="182626"/>
                    </a:moveTo>
                    <a:lnTo>
                      <a:pt x="171323" y="385826"/>
                    </a:lnTo>
                    <a:lnTo>
                      <a:pt x="0" y="172974"/>
                    </a:lnTo>
                    <a:lnTo>
                      <a:pt x="161544" y="0"/>
                    </a:lnTo>
                    <a:lnTo>
                      <a:pt x="363728" y="182626"/>
                    </a:lnTo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6" name="任意多边形: 形状 58"/>
              <p:cNvSpPr/>
              <p:nvPr/>
            </p:nvSpPr>
            <p:spPr>
              <a:xfrm rot="14680200">
                <a:off x="7761600" y="6118920"/>
                <a:ext cx="709200" cy="382320"/>
              </a:xfrm>
              <a:custGeom>
                <a:avLst/>
                <a:gdLst/>
                <a:ahLst/>
                <a:rect l="l" t="t" r="r" b="b"/>
                <a:pathLst>
                  <a:path w="392304" h="281941">
                    <a:moveTo>
                      <a:pt x="93980" y="68199"/>
                    </a:moveTo>
                    <a:cubicBezTo>
                      <a:pt x="117475" y="53594"/>
                      <a:pt x="140970" y="76327"/>
                      <a:pt x="119380" y="98933"/>
                    </a:cubicBezTo>
                    <a:lnTo>
                      <a:pt x="76708" y="143764"/>
                    </a:lnTo>
                    <a:cubicBezTo>
                      <a:pt x="62357" y="178308"/>
                      <a:pt x="94869" y="198628"/>
                      <a:pt x="117729" y="182626"/>
                    </a:cubicBezTo>
                    <a:lnTo>
                      <a:pt x="291338" y="16129"/>
                    </a:lnTo>
                    <a:cubicBezTo>
                      <a:pt x="356616" y="0"/>
                      <a:pt x="392303" y="33909"/>
                      <a:pt x="381508" y="99314"/>
                    </a:cubicBezTo>
                    <a:cubicBezTo>
                      <a:pt x="372110" y="128778"/>
                      <a:pt x="356616" y="136017"/>
                      <a:pt x="330708" y="163068"/>
                    </a:cubicBezTo>
                    <a:cubicBezTo>
                      <a:pt x="308229" y="187452"/>
                      <a:pt x="315468" y="204978"/>
                      <a:pt x="332867" y="220345"/>
                    </a:cubicBezTo>
                    <a:lnTo>
                      <a:pt x="364871" y="252095"/>
                    </a:lnTo>
                    <a:lnTo>
                      <a:pt x="335026" y="281940"/>
                    </a:lnTo>
                    <a:lnTo>
                      <a:pt x="292862" y="239014"/>
                    </a:lnTo>
                    <a:cubicBezTo>
                      <a:pt x="261747" y="206883"/>
                      <a:pt x="271526" y="172847"/>
                      <a:pt x="300482" y="142875"/>
                    </a:cubicBezTo>
                    <a:lnTo>
                      <a:pt x="341503" y="100711"/>
                    </a:lnTo>
                    <a:cubicBezTo>
                      <a:pt x="356616" y="73914"/>
                      <a:pt x="338836" y="41529"/>
                      <a:pt x="296164" y="58547"/>
                    </a:cubicBezTo>
                    <a:lnTo>
                      <a:pt x="149098" y="217424"/>
                    </a:lnTo>
                    <a:cubicBezTo>
                      <a:pt x="82677" y="262763"/>
                      <a:pt x="0" y="217424"/>
                      <a:pt x="44196" y="122301"/>
                    </a:cubicBezTo>
                    <a:close/>
                  </a:path>
                </a:pathLst>
              </a:custGeom>
              <a:solidFill>
                <a:srgbClr val="50a6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87" name="组合 7"/>
            <p:cNvGrpSpPr/>
            <p:nvPr/>
          </p:nvGrpSpPr>
          <p:grpSpPr>
            <a:xfrm>
              <a:off x="7144920" y="4443120"/>
              <a:ext cx="2348280" cy="2202120"/>
              <a:chOff x="7144920" y="4443120"/>
              <a:chExt cx="2348280" cy="2202120"/>
            </a:xfrm>
          </p:grpSpPr>
          <p:sp>
            <p:nvSpPr>
              <p:cNvPr id="1388" name="任意多边形: 形状 51"/>
              <p:cNvSpPr/>
              <p:nvPr/>
            </p:nvSpPr>
            <p:spPr>
              <a:xfrm rot="1202400">
                <a:off x="7961760" y="4610160"/>
                <a:ext cx="1277280" cy="1707840"/>
              </a:xfrm>
              <a:custGeom>
                <a:avLst/>
                <a:gdLst/>
                <a:ahLst/>
                <a:rect l="l" t="t" r="r" b="b"/>
                <a:pathLst>
                  <a:path w="1049275" h="1052323">
                    <a:moveTo>
                      <a:pt x="993648" y="16510"/>
                    </a:moveTo>
                    <a:cubicBezTo>
                      <a:pt x="1039622" y="0"/>
                      <a:pt x="1049274" y="26289"/>
                      <a:pt x="1045591" y="68453"/>
                    </a:cubicBezTo>
                    <a:cubicBezTo>
                      <a:pt x="726059" y="414782"/>
                      <a:pt x="205740" y="1052322"/>
                      <a:pt x="137668" y="1045591"/>
                    </a:cubicBezTo>
                    <a:cubicBezTo>
                      <a:pt x="119762" y="1046861"/>
                      <a:pt x="81662" y="1002157"/>
                      <a:pt x="63374" y="981456"/>
                    </a:cubicBezTo>
                    <a:cubicBezTo>
                      <a:pt x="0" y="941832"/>
                      <a:pt x="652653" y="362331"/>
                      <a:pt x="993648" y="16510"/>
                    </a:cubicBezTo>
                    <a:close/>
                  </a:path>
                </a:pathLst>
              </a:custGeom>
              <a:solidFill>
                <a:srgbClr val="525e8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9" name="任意多边形: 形状 52"/>
              <p:cNvSpPr/>
              <p:nvPr/>
            </p:nvSpPr>
            <p:spPr>
              <a:xfrm rot="1202400">
                <a:off x="7664400" y="5962320"/>
                <a:ext cx="184320" cy="243000"/>
              </a:xfrm>
              <a:custGeom>
                <a:avLst/>
                <a:gdLst/>
                <a:ahLst/>
                <a:rect l="l" t="t" r="r" b="b"/>
                <a:pathLst>
                  <a:path w="151638" h="149860">
                    <a:moveTo>
                      <a:pt x="0" y="101219"/>
                    </a:moveTo>
                    <a:lnTo>
                      <a:pt x="46990" y="149860"/>
                    </a:lnTo>
                    <a:lnTo>
                      <a:pt x="151638" y="46990"/>
                    </a:lnTo>
                    <a:lnTo>
                      <a:pt x="102235" y="0"/>
                    </a:lnTo>
                    <a:lnTo>
                      <a:pt x="0" y="101219"/>
                    </a:lnTo>
                  </a:path>
                </a:pathLst>
              </a:custGeom>
              <a:solidFill>
                <a:srgbClr val="d9d9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0" name="任意多边形: 形状 53"/>
              <p:cNvSpPr/>
              <p:nvPr/>
            </p:nvSpPr>
            <p:spPr>
              <a:xfrm rot="1202400">
                <a:off x="7232760" y="6006600"/>
                <a:ext cx="409320" cy="586080"/>
              </a:xfrm>
              <a:custGeom>
                <a:avLst/>
                <a:gdLst/>
                <a:ahLst/>
                <a:rect l="l" t="t" r="r" b="b"/>
                <a:pathLst>
                  <a:path w="336297" h="361189">
                    <a:moveTo>
                      <a:pt x="0" y="345567"/>
                    </a:moveTo>
                    <a:lnTo>
                      <a:pt x="160782" y="46736"/>
                    </a:lnTo>
                    <a:cubicBezTo>
                      <a:pt x="196723" y="5969"/>
                      <a:pt x="229489" y="0"/>
                      <a:pt x="278003" y="14859"/>
                    </a:cubicBezTo>
                    <a:lnTo>
                      <a:pt x="324993" y="63500"/>
                    </a:lnTo>
                    <a:cubicBezTo>
                      <a:pt x="336296" y="118110"/>
                      <a:pt x="331089" y="161290"/>
                      <a:pt x="302260" y="188341"/>
                    </a:cubicBezTo>
                    <a:lnTo>
                      <a:pt x="17780" y="359283"/>
                    </a:lnTo>
                    <a:cubicBezTo>
                      <a:pt x="8128" y="361188"/>
                      <a:pt x="1651" y="357378"/>
                      <a:pt x="0" y="345567"/>
                    </a:cubicBezTo>
                    <a:close/>
                  </a:path>
                </a:pathLst>
              </a:custGeom>
              <a:solidFill>
                <a:srgbClr val="ab49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1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2" name="PlaceHolder 2"/>
          <p:cNvSpPr>
            <a:spLocks noGrp="1"/>
          </p:cNvSpPr>
          <p:nvPr>
            <p:ph type="body"/>
          </p:nvPr>
        </p:nvSpPr>
        <p:spPr>
          <a:xfrm>
            <a:off x="501480" y="952200"/>
            <a:ext cx="8141040" cy="538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028880" indent="-34308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371600" indent="-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371600" indent="-68580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3" name="PlaceHolder 3"/>
          <p:cNvSpPr>
            <a:spLocks noGrp="1"/>
          </p:cNvSpPr>
          <p:nvPr>
            <p:ph type="dt" idx="9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632AE-CE26-4E23-B753-78A62E9D00EC}" type="datetime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PlaceHolder 4"/>
          <p:cNvSpPr>
            <a:spLocks noGrp="1"/>
          </p:cNvSpPr>
          <p:nvPr>
            <p:ph type="ftr" idx="9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5" name="PlaceHolder 5"/>
          <p:cNvSpPr>
            <a:spLocks noGrp="1"/>
          </p:cNvSpPr>
          <p:nvPr>
            <p:ph type="sldNum" idx="9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幼圆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4CE19-FADD-4546-AA70-B0E2808B0B5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幼圆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8D36DF-59D2-4CC2-B994-6474C28E44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10187-7479-487D-AA30-80DF21F90A0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0ABB5-D8B3-4F2B-8785-CAE23AD9036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11555-80AA-4758-BBCC-DAE7D587A77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85C0FE-8A69-4060-B424-9880F18B2A8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EF969-CEB1-4786-84FC-7732896C67A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5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5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5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5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5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5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5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5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5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5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57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5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57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5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5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5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5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5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5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5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5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2" name="图片 28681" descr=""/>
          <p:cNvPicPr/>
          <p:nvPr/>
        </p:nvPicPr>
        <p:blipFill>
          <a:blip r:embed="rId1"/>
          <a:stretch/>
        </p:blipFill>
        <p:spPr>
          <a:xfrm>
            <a:off x="2309760" y="2028960"/>
            <a:ext cx="4562640" cy="1123920"/>
          </a:xfrm>
          <a:prstGeom prst="rect">
            <a:avLst/>
          </a:prstGeom>
          <a:ln w="0">
            <a:noFill/>
          </a:ln>
        </p:spPr>
      </p:pic>
      <p:pic>
        <p:nvPicPr>
          <p:cNvPr id="1433" name="图片 28682" descr=""/>
          <p:cNvPicPr/>
          <p:nvPr/>
        </p:nvPicPr>
        <p:blipFill>
          <a:blip r:embed="rId2"/>
          <a:stretch/>
        </p:blipFill>
        <p:spPr>
          <a:xfrm>
            <a:off x="2181240" y="3408480"/>
            <a:ext cx="4781520" cy="8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7" name="图片 116737" descr=""/>
          <p:cNvPicPr/>
          <p:nvPr/>
        </p:nvPicPr>
        <p:blipFill>
          <a:blip r:embed="rId1"/>
          <a:stretch/>
        </p:blipFill>
        <p:spPr>
          <a:xfrm>
            <a:off x="333360" y="1863720"/>
            <a:ext cx="8344080" cy="2952720"/>
          </a:xfrm>
          <a:prstGeom prst="rect">
            <a:avLst/>
          </a:prstGeom>
          <a:ln w="0">
            <a:noFill/>
          </a:ln>
        </p:spPr>
      </p:pic>
      <p:sp>
        <p:nvSpPr>
          <p:cNvPr id="1458" name="矩形 116739"/>
          <p:cNvSpPr/>
          <p:nvPr/>
        </p:nvSpPr>
        <p:spPr>
          <a:xfrm>
            <a:off x="8064360" y="2610000"/>
            <a:ext cx="449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5" dur="1000"/>
                                        <p:tgtEl>
                                          <p:spTgt spid="14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9" name="图片 115713" descr=""/>
          <p:cNvPicPr/>
          <p:nvPr/>
        </p:nvPicPr>
        <p:blipFill>
          <a:blip r:embed="rId1"/>
          <a:stretch/>
        </p:blipFill>
        <p:spPr>
          <a:xfrm>
            <a:off x="399960" y="1747800"/>
            <a:ext cx="8344080" cy="3362400"/>
          </a:xfrm>
          <a:prstGeom prst="rect">
            <a:avLst/>
          </a:prstGeom>
          <a:ln w="0">
            <a:noFill/>
          </a:ln>
        </p:spPr>
      </p:pic>
      <p:sp>
        <p:nvSpPr>
          <p:cNvPr id="1460" name="矩形 115714"/>
          <p:cNvSpPr/>
          <p:nvPr/>
        </p:nvSpPr>
        <p:spPr>
          <a:xfrm>
            <a:off x="4683240" y="2133720"/>
            <a:ext cx="449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2" dur="1000"/>
                                        <p:tgtEl>
                                          <p:spTgt spid="14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1" name="图片 114689" descr=""/>
          <p:cNvPicPr/>
          <p:nvPr/>
        </p:nvPicPr>
        <p:blipFill>
          <a:blip r:embed="rId1"/>
          <a:stretch/>
        </p:blipFill>
        <p:spPr>
          <a:xfrm>
            <a:off x="395280" y="1200240"/>
            <a:ext cx="8353440" cy="4457520"/>
          </a:xfrm>
          <a:prstGeom prst="rect">
            <a:avLst/>
          </a:prstGeom>
          <a:ln w="0">
            <a:noFill/>
          </a:ln>
        </p:spPr>
      </p:pic>
      <p:sp>
        <p:nvSpPr>
          <p:cNvPr id="1462" name="矩形 114690"/>
          <p:cNvSpPr/>
          <p:nvPr/>
        </p:nvSpPr>
        <p:spPr>
          <a:xfrm>
            <a:off x="8150400" y="4552920"/>
            <a:ext cx="448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1000"/>
                                        <p:tgtEl>
                                          <p:spTgt spid="14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3" name="图片 113665" descr=""/>
          <p:cNvPicPr/>
          <p:nvPr/>
        </p:nvPicPr>
        <p:blipFill>
          <a:blip r:embed="rId1"/>
          <a:stretch/>
        </p:blipFill>
        <p:spPr>
          <a:xfrm>
            <a:off x="404640" y="747720"/>
            <a:ext cx="8334720" cy="5267160"/>
          </a:xfrm>
          <a:prstGeom prst="rect">
            <a:avLst/>
          </a:prstGeom>
          <a:ln w="0">
            <a:noFill/>
          </a:ln>
        </p:spPr>
      </p:pic>
      <p:pic>
        <p:nvPicPr>
          <p:cNvPr id="1464" name="图片 113666" descr=""/>
          <p:cNvPicPr/>
          <p:nvPr/>
        </p:nvPicPr>
        <p:blipFill>
          <a:blip r:embed="rId2"/>
          <a:stretch/>
        </p:blipFill>
        <p:spPr>
          <a:xfrm>
            <a:off x="746280" y="6114960"/>
            <a:ext cx="6619680" cy="638280"/>
          </a:xfrm>
          <a:prstGeom prst="rect">
            <a:avLst/>
          </a:prstGeom>
          <a:ln w="0">
            <a:noFill/>
          </a:ln>
        </p:spPr>
      </p:pic>
      <p:sp>
        <p:nvSpPr>
          <p:cNvPr id="1465" name="矩形 113667"/>
          <p:cNvSpPr/>
          <p:nvPr/>
        </p:nvSpPr>
        <p:spPr>
          <a:xfrm>
            <a:off x="8150400" y="647640"/>
            <a:ext cx="448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6" name="矩形 113668"/>
          <p:cNvSpPr/>
          <p:nvPr/>
        </p:nvSpPr>
        <p:spPr>
          <a:xfrm>
            <a:off x="1006560" y="5324400"/>
            <a:ext cx="7923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7" name="矩形 113669"/>
          <p:cNvSpPr/>
          <p:nvPr/>
        </p:nvSpPr>
        <p:spPr>
          <a:xfrm>
            <a:off x="939960" y="5686560"/>
            <a:ext cx="79228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8" name="矩形 113670"/>
          <p:cNvSpPr/>
          <p:nvPr/>
        </p:nvSpPr>
        <p:spPr>
          <a:xfrm>
            <a:off x="949320" y="6448320"/>
            <a:ext cx="792324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1000"/>
                                        <p:tgtEl>
                                          <p:spTgt spid="14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1000"/>
                                        <p:tgtEl>
                                          <p:spTgt spid="14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1000"/>
                                        <p:tgtEl>
                                          <p:spTgt spid="14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1000"/>
                                        <p:tgtEl>
                                          <p:spTgt spid="14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9" name="图片 112641" descr=""/>
          <p:cNvPicPr/>
          <p:nvPr/>
        </p:nvPicPr>
        <p:blipFill>
          <a:blip r:embed="rId1"/>
          <a:stretch/>
        </p:blipFill>
        <p:spPr>
          <a:xfrm>
            <a:off x="585720" y="1428840"/>
            <a:ext cx="7972560" cy="40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0" name="图片 111617" descr=""/>
          <p:cNvPicPr/>
          <p:nvPr/>
        </p:nvPicPr>
        <p:blipFill>
          <a:blip r:embed="rId1"/>
          <a:stretch/>
        </p:blipFill>
        <p:spPr>
          <a:xfrm>
            <a:off x="684360" y="907920"/>
            <a:ext cx="7572240" cy="5067360"/>
          </a:xfrm>
          <a:prstGeom prst="rect">
            <a:avLst/>
          </a:prstGeom>
          <a:ln w="0">
            <a:noFill/>
          </a:ln>
        </p:spPr>
      </p:pic>
      <p:sp>
        <p:nvSpPr>
          <p:cNvPr id="1471" name="矩形 111618"/>
          <p:cNvSpPr/>
          <p:nvPr/>
        </p:nvSpPr>
        <p:spPr>
          <a:xfrm>
            <a:off x="1101600" y="5024520"/>
            <a:ext cx="7288200" cy="4237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2" name="矩形 111619"/>
          <p:cNvSpPr/>
          <p:nvPr/>
        </p:nvSpPr>
        <p:spPr>
          <a:xfrm>
            <a:off x="1063800" y="5557680"/>
            <a:ext cx="7288200" cy="4240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1000"/>
                                        <p:tgtEl>
                                          <p:spTgt spid="14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1000"/>
                                        <p:tgtEl>
                                          <p:spTgt spid="14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73" name="图片 110593" descr=""/>
          <p:cNvPicPr/>
          <p:nvPr/>
        </p:nvPicPr>
        <p:blipFill>
          <a:blip r:embed="rId1"/>
          <a:stretch/>
        </p:blipFill>
        <p:spPr>
          <a:xfrm>
            <a:off x="681120" y="1114560"/>
            <a:ext cx="7534080" cy="4514760"/>
          </a:xfrm>
          <a:prstGeom prst="rect">
            <a:avLst/>
          </a:prstGeom>
          <a:ln w="0">
            <a:noFill/>
          </a:ln>
        </p:spPr>
      </p:pic>
      <p:sp>
        <p:nvSpPr>
          <p:cNvPr id="1474" name="矩形 110594"/>
          <p:cNvSpPr/>
          <p:nvPr/>
        </p:nvSpPr>
        <p:spPr>
          <a:xfrm>
            <a:off x="1111320" y="2138400"/>
            <a:ext cx="71452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5" name="矩形 110595"/>
          <p:cNvSpPr/>
          <p:nvPr/>
        </p:nvSpPr>
        <p:spPr>
          <a:xfrm>
            <a:off x="1025640" y="2624040"/>
            <a:ext cx="714528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6" name="矩形 110596"/>
          <p:cNvSpPr/>
          <p:nvPr/>
        </p:nvSpPr>
        <p:spPr>
          <a:xfrm>
            <a:off x="1139760" y="3176640"/>
            <a:ext cx="71452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7" name="矩形 110597"/>
          <p:cNvSpPr/>
          <p:nvPr/>
        </p:nvSpPr>
        <p:spPr>
          <a:xfrm>
            <a:off x="1130400" y="3672000"/>
            <a:ext cx="714528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8" name="矩形 110598"/>
          <p:cNvSpPr/>
          <p:nvPr/>
        </p:nvSpPr>
        <p:spPr>
          <a:xfrm>
            <a:off x="1101600" y="4195800"/>
            <a:ext cx="714564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9" name="矩形 110599"/>
          <p:cNvSpPr/>
          <p:nvPr/>
        </p:nvSpPr>
        <p:spPr>
          <a:xfrm>
            <a:off x="1177920" y="4719600"/>
            <a:ext cx="714528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0" name="矩形 110600"/>
          <p:cNvSpPr/>
          <p:nvPr/>
        </p:nvSpPr>
        <p:spPr>
          <a:xfrm>
            <a:off x="920880" y="5214960"/>
            <a:ext cx="714528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0" dur="1000"/>
                                        <p:tgtEl>
                                          <p:spTgt spid="14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5" dur="1000"/>
                                        <p:tgtEl>
                                          <p:spTgt spid="14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0" dur="1000"/>
                                        <p:tgtEl>
                                          <p:spTgt spid="14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5" dur="1000"/>
                                        <p:tgtEl>
                                          <p:spTgt spid="14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0" dur="1000"/>
                                        <p:tgtEl>
                                          <p:spTgt spid="14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75" dur="1000"/>
                                        <p:tgtEl>
                                          <p:spTgt spid="14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0" dur="1000"/>
                                        <p:tgtEl>
                                          <p:spTgt spid="14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1" name="图片 109569" descr=""/>
          <p:cNvPicPr/>
          <p:nvPr/>
        </p:nvPicPr>
        <p:blipFill>
          <a:blip r:embed="rId1"/>
          <a:stretch/>
        </p:blipFill>
        <p:spPr>
          <a:xfrm>
            <a:off x="511200" y="1393920"/>
            <a:ext cx="8001000" cy="31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2" name="图片 108545" descr=""/>
          <p:cNvPicPr/>
          <p:nvPr/>
        </p:nvPicPr>
        <p:blipFill>
          <a:blip r:embed="rId1"/>
          <a:stretch/>
        </p:blipFill>
        <p:spPr>
          <a:xfrm>
            <a:off x="1800360" y="758880"/>
            <a:ext cx="5700600" cy="3349440"/>
          </a:xfrm>
          <a:prstGeom prst="rect">
            <a:avLst/>
          </a:prstGeom>
          <a:ln w="0">
            <a:noFill/>
          </a:ln>
        </p:spPr>
      </p:pic>
      <p:pic>
        <p:nvPicPr>
          <p:cNvPr id="1483" name="图片 108546" descr=""/>
          <p:cNvPicPr/>
          <p:nvPr/>
        </p:nvPicPr>
        <p:blipFill>
          <a:blip r:embed="rId2"/>
          <a:stretch/>
        </p:blipFill>
        <p:spPr>
          <a:xfrm>
            <a:off x="538200" y="4229280"/>
            <a:ext cx="7962840" cy="2409480"/>
          </a:xfrm>
          <a:prstGeom prst="rect">
            <a:avLst/>
          </a:prstGeom>
          <a:ln w="0">
            <a:noFill/>
          </a:ln>
        </p:spPr>
      </p:pic>
      <p:sp>
        <p:nvSpPr>
          <p:cNvPr id="1484" name="矩形 108547"/>
          <p:cNvSpPr/>
          <p:nvPr/>
        </p:nvSpPr>
        <p:spPr>
          <a:xfrm>
            <a:off x="1063800" y="4727520"/>
            <a:ext cx="745956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矩形 108548"/>
          <p:cNvSpPr/>
          <p:nvPr/>
        </p:nvSpPr>
        <p:spPr>
          <a:xfrm>
            <a:off x="1044720" y="5270400"/>
            <a:ext cx="745956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矩形 108549"/>
          <p:cNvSpPr/>
          <p:nvPr/>
        </p:nvSpPr>
        <p:spPr>
          <a:xfrm>
            <a:off x="1025640" y="5775480"/>
            <a:ext cx="745956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7" name="矩形 108550"/>
          <p:cNvSpPr/>
          <p:nvPr/>
        </p:nvSpPr>
        <p:spPr>
          <a:xfrm>
            <a:off x="968400" y="6261120"/>
            <a:ext cx="745956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87" dur="1000"/>
                                        <p:tgtEl>
                                          <p:spTgt spid="14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2" dur="1000"/>
                                        <p:tgtEl>
                                          <p:spTgt spid="14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7" dur="1000"/>
                                        <p:tgtEl>
                                          <p:spTgt spid="14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2" dur="1000"/>
                                        <p:tgtEl>
                                          <p:spTgt spid="14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8" name="图片 107521" descr=""/>
          <p:cNvPicPr/>
          <p:nvPr/>
        </p:nvPicPr>
        <p:blipFill>
          <a:blip r:embed="rId1"/>
          <a:stretch/>
        </p:blipFill>
        <p:spPr>
          <a:xfrm>
            <a:off x="611280" y="1268280"/>
            <a:ext cx="7943760" cy="4515120"/>
          </a:xfrm>
          <a:prstGeom prst="rect">
            <a:avLst/>
          </a:prstGeom>
          <a:ln w="0">
            <a:noFill/>
          </a:ln>
        </p:spPr>
      </p:pic>
      <p:sp>
        <p:nvSpPr>
          <p:cNvPr id="1489" name="矩形 107522"/>
          <p:cNvSpPr/>
          <p:nvPr/>
        </p:nvSpPr>
        <p:spPr>
          <a:xfrm>
            <a:off x="1149480" y="2327400"/>
            <a:ext cx="745956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矩形 107523"/>
          <p:cNvSpPr/>
          <p:nvPr/>
        </p:nvSpPr>
        <p:spPr>
          <a:xfrm>
            <a:off x="1111320" y="2813040"/>
            <a:ext cx="745956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矩形 107524"/>
          <p:cNvSpPr/>
          <p:nvPr/>
        </p:nvSpPr>
        <p:spPr>
          <a:xfrm>
            <a:off x="1139760" y="3346560"/>
            <a:ext cx="745956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2" name="矩形 107525"/>
          <p:cNvSpPr/>
          <p:nvPr/>
        </p:nvSpPr>
        <p:spPr>
          <a:xfrm>
            <a:off x="1015920" y="3832200"/>
            <a:ext cx="745992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3" name="矩形 107526"/>
          <p:cNvSpPr/>
          <p:nvPr/>
        </p:nvSpPr>
        <p:spPr>
          <a:xfrm>
            <a:off x="1101600" y="4346640"/>
            <a:ext cx="74599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4" name="矩形 107527"/>
          <p:cNvSpPr/>
          <p:nvPr/>
        </p:nvSpPr>
        <p:spPr>
          <a:xfrm>
            <a:off x="1130400" y="4879800"/>
            <a:ext cx="745956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矩形 107528"/>
          <p:cNvSpPr/>
          <p:nvPr/>
        </p:nvSpPr>
        <p:spPr>
          <a:xfrm>
            <a:off x="1044720" y="5375160"/>
            <a:ext cx="7459560" cy="3780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09" dur="1000"/>
                                        <p:tgtEl>
                                          <p:spTgt spid="14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4" dur="1000"/>
                                        <p:tgtEl>
                                          <p:spTgt spid="14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9" dur="1000"/>
                                        <p:tgtEl>
                                          <p:spTgt spid="14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4" dur="1000"/>
                                        <p:tgtEl>
                                          <p:spTgt spid="14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9" dur="1000"/>
                                        <p:tgtEl>
                                          <p:spTgt spid="14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4" dur="1000"/>
                                        <p:tgtEl>
                                          <p:spTgt spid="1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39" dur="1000"/>
                                        <p:tgtEl>
                                          <p:spTgt spid="1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4" name="图片 124929" descr=""/>
          <p:cNvPicPr/>
          <p:nvPr/>
        </p:nvPicPr>
        <p:blipFill>
          <a:blip r:embed="rId1"/>
          <a:stretch/>
        </p:blipFill>
        <p:spPr>
          <a:xfrm>
            <a:off x="666720" y="2571840"/>
            <a:ext cx="7810560" cy="1714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6" name="图片 106497" descr=""/>
          <p:cNvPicPr/>
          <p:nvPr/>
        </p:nvPicPr>
        <p:blipFill>
          <a:blip r:embed="rId1"/>
          <a:stretch/>
        </p:blipFill>
        <p:spPr>
          <a:xfrm>
            <a:off x="833400" y="1419120"/>
            <a:ext cx="7477200" cy="4019760"/>
          </a:xfrm>
          <a:prstGeom prst="rect">
            <a:avLst/>
          </a:prstGeom>
          <a:ln w="0">
            <a:noFill/>
          </a:ln>
        </p:spPr>
      </p:pic>
      <p:sp>
        <p:nvSpPr>
          <p:cNvPr id="1497" name="矩形 106498"/>
          <p:cNvSpPr/>
          <p:nvPr/>
        </p:nvSpPr>
        <p:spPr>
          <a:xfrm>
            <a:off x="797040" y="1428840"/>
            <a:ext cx="7591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8" name="矩形 106499"/>
          <p:cNvSpPr/>
          <p:nvPr/>
        </p:nvSpPr>
        <p:spPr>
          <a:xfrm>
            <a:off x="882720" y="1943280"/>
            <a:ext cx="7591320" cy="3711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9" name="矩形 106500"/>
          <p:cNvSpPr/>
          <p:nvPr/>
        </p:nvSpPr>
        <p:spPr>
          <a:xfrm>
            <a:off x="787320" y="2486160"/>
            <a:ext cx="75916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矩形 106501"/>
          <p:cNvSpPr/>
          <p:nvPr/>
        </p:nvSpPr>
        <p:spPr>
          <a:xfrm>
            <a:off x="787320" y="3000240"/>
            <a:ext cx="759168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1" name="矩形 106502"/>
          <p:cNvSpPr/>
          <p:nvPr/>
        </p:nvSpPr>
        <p:spPr>
          <a:xfrm>
            <a:off x="826920" y="3500280"/>
            <a:ext cx="7591680" cy="4194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矩形 106503"/>
          <p:cNvSpPr/>
          <p:nvPr/>
        </p:nvSpPr>
        <p:spPr>
          <a:xfrm>
            <a:off x="816120" y="4019400"/>
            <a:ext cx="7591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3" name="矩形 106504"/>
          <p:cNvSpPr/>
          <p:nvPr/>
        </p:nvSpPr>
        <p:spPr>
          <a:xfrm>
            <a:off x="755640" y="4518000"/>
            <a:ext cx="7591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4" name="矩形 106505"/>
          <p:cNvSpPr/>
          <p:nvPr/>
        </p:nvSpPr>
        <p:spPr>
          <a:xfrm>
            <a:off x="708120" y="5060880"/>
            <a:ext cx="7591320" cy="3715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46" dur="1000"/>
                                        <p:tgtEl>
                                          <p:spTgt spid="1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1" dur="1000"/>
                                        <p:tgtEl>
                                          <p:spTgt spid="14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56" dur="1000"/>
                                        <p:tgtEl>
                                          <p:spTgt spid="14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1" dur="1000"/>
                                        <p:tgtEl>
                                          <p:spTgt spid="15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6" dur="1000"/>
                                        <p:tgtEl>
                                          <p:spTgt spid="15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1" dur="1000"/>
                                        <p:tgtEl>
                                          <p:spTgt spid="15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6" dur="1000"/>
                                        <p:tgtEl>
                                          <p:spTgt spid="15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1" dur="1000"/>
                                        <p:tgtEl>
                                          <p:spTgt spid="1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5" name="图片 125953" descr=""/>
          <p:cNvPicPr/>
          <p:nvPr/>
        </p:nvPicPr>
        <p:blipFill>
          <a:blip r:embed="rId1"/>
          <a:stretch/>
        </p:blipFill>
        <p:spPr>
          <a:xfrm>
            <a:off x="590400" y="1681200"/>
            <a:ext cx="7963200" cy="3495600"/>
          </a:xfrm>
          <a:prstGeom prst="rect">
            <a:avLst/>
          </a:prstGeom>
          <a:ln w="0">
            <a:noFill/>
          </a:ln>
        </p:spPr>
      </p:pic>
      <p:sp>
        <p:nvSpPr>
          <p:cNvPr id="1506" name="矩形 125954"/>
          <p:cNvSpPr/>
          <p:nvPr/>
        </p:nvSpPr>
        <p:spPr>
          <a:xfrm>
            <a:off x="1044720" y="2195640"/>
            <a:ext cx="74595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7" name="矩形 125955"/>
          <p:cNvSpPr/>
          <p:nvPr/>
        </p:nvSpPr>
        <p:spPr>
          <a:xfrm>
            <a:off x="1095480" y="2708280"/>
            <a:ext cx="74595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8" name="矩形 125956"/>
          <p:cNvSpPr/>
          <p:nvPr/>
        </p:nvSpPr>
        <p:spPr>
          <a:xfrm>
            <a:off x="971640" y="3213000"/>
            <a:ext cx="74595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9" name="矩形 125957"/>
          <p:cNvSpPr/>
          <p:nvPr/>
        </p:nvSpPr>
        <p:spPr>
          <a:xfrm>
            <a:off x="1114560" y="3718080"/>
            <a:ext cx="745956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0" name="矩形 125958"/>
          <p:cNvSpPr/>
          <p:nvPr/>
        </p:nvSpPr>
        <p:spPr>
          <a:xfrm>
            <a:off x="1076400" y="4270320"/>
            <a:ext cx="7459560" cy="38592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1" name="矩形 125959"/>
          <p:cNvSpPr/>
          <p:nvPr/>
        </p:nvSpPr>
        <p:spPr>
          <a:xfrm>
            <a:off x="1047600" y="4756320"/>
            <a:ext cx="7459920" cy="385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8" dur="1000"/>
                                        <p:tgtEl>
                                          <p:spTgt spid="15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3" dur="1000"/>
                                        <p:tgtEl>
                                          <p:spTgt spid="15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98" dur="1000"/>
                                        <p:tgtEl>
                                          <p:spTgt spid="15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3" dur="1000"/>
                                        <p:tgtEl>
                                          <p:spTgt spid="15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08" dur="1000"/>
                                        <p:tgtEl>
                                          <p:spTgt spid="15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3" dur="1000"/>
                                        <p:tgtEl>
                                          <p:spTgt spid="15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2" name="图片 126977" descr=""/>
          <p:cNvPicPr/>
          <p:nvPr/>
        </p:nvPicPr>
        <p:blipFill>
          <a:blip r:embed="rId1"/>
          <a:stretch/>
        </p:blipFill>
        <p:spPr>
          <a:xfrm>
            <a:off x="809640" y="1676520"/>
            <a:ext cx="7524720" cy="3504960"/>
          </a:xfrm>
          <a:prstGeom prst="rect">
            <a:avLst/>
          </a:prstGeom>
          <a:ln w="0">
            <a:noFill/>
          </a:ln>
        </p:spPr>
      </p:pic>
      <p:sp>
        <p:nvSpPr>
          <p:cNvPr id="1513" name="矩形 126978"/>
          <p:cNvSpPr/>
          <p:nvPr/>
        </p:nvSpPr>
        <p:spPr>
          <a:xfrm>
            <a:off x="711360" y="1689120"/>
            <a:ext cx="7726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4" name="矩形 126979"/>
          <p:cNvSpPr/>
          <p:nvPr/>
        </p:nvSpPr>
        <p:spPr>
          <a:xfrm>
            <a:off x="720720" y="2203560"/>
            <a:ext cx="7726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5" name="矩形 126980"/>
          <p:cNvSpPr/>
          <p:nvPr/>
        </p:nvSpPr>
        <p:spPr>
          <a:xfrm>
            <a:off x="711360" y="2746440"/>
            <a:ext cx="7726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6" name="矩形 126981"/>
          <p:cNvSpPr/>
          <p:nvPr/>
        </p:nvSpPr>
        <p:spPr>
          <a:xfrm>
            <a:off x="749160" y="3222720"/>
            <a:ext cx="772668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7" name="矩形 126982"/>
          <p:cNvSpPr/>
          <p:nvPr/>
        </p:nvSpPr>
        <p:spPr>
          <a:xfrm>
            <a:off x="777960" y="3718080"/>
            <a:ext cx="7726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8" name="矩形 126983"/>
          <p:cNvSpPr/>
          <p:nvPr/>
        </p:nvSpPr>
        <p:spPr>
          <a:xfrm>
            <a:off x="825480" y="4260960"/>
            <a:ext cx="7726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9" name="矩形 126984"/>
          <p:cNvSpPr/>
          <p:nvPr/>
        </p:nvSpPr>
        <p:spPr>
          <a:xfrm>
            <a:off x="825480" y="4803840"/>
            <a:ext cx="7726320" cy="37764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0" dur="1000"/>
                                        <p:tgtEl>
                                          <p:spTgt spid="15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5" dur="10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0" dur="1000"/>
                                        <p:tgtEl>
                                          <p:spTgt spid="15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5" dur="1000"/>
                                        <p:tgtEl>
                                          <p:spTgt spid="15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0" dur="10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45" dur="1000"/>
                                        <p:tgtEl>
                                          <p:spTgt spid="15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0" dur="1000"/>
                                        <p:tgtEl>
                                          <p:spTgt spid="15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5" name="图片 123905" descr=""/>
          <p:cNvPicPr/>
          <p:nvPr/>
        </p:nvPicPr>
        <p:blipFill>
          <a:blip r:embed="rId1"/>
          <a:stretch/>
        </p:blipFill>
        <p:spPr>
          <a:xfrm>
            <a:off x="395280" y="907920"/>
            <a:ext cx="8362800" cy="5181840"/>
          </a:xfrm>
          <a:prstGeom prst="rect">
            <a:avLst/>
          </a:prstGeom>
          <a:ln w="0">
            <a:noFill/>
          </a:ln>
        </p:spPr>
      </p:pic>
      <p:sp>
        <p:nvSpPr>
          <p:cNvPr id="1436" name="矩形 123906"/>
          <p:cNvSpPr/>
          <p:nvPr/>
        </p:nvSpPr>
        <p:spPr>
          <a:xfrm>
            <a:off x="4140360" y="2000160"/>
            <a:ext cx="11268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7" name="矩形 123907"/>
          <p:cNvSpPr/>
          <p:nvPr/>
        </p:nvSpPr>
        <p:spPr>
          <a:xfrm>
            <a:off x="1682640" y="2743200"/>
            <a:ext cx="11271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8" name="矩形 123908"/>
          <p:cNvSpPr/>
          <p:nvPr/>
        </p:nvSpPr>
        <p:spPr>
          <a:xfrm>
            <a:off x="5826240" y="3105000"/>
            <a:ext cx="112716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9" name="矩形 123909"/>
          <p:cNvSpPr/>
          <p:nvPr/>
        </p:nvSpPr>
        <p:spPr>
          <a:xfrm>
            <a:off x="7159680" y="4200480"/>
            <a:ext cx="14446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0" name="矩形 123910"/>
          <p:cNvSpPr/>
          <p:nvPr/>
        </p:nvSpPr>
        <p:spPr>
          <a:xfrm>
            <a:off x="3730680" y="4952880"/>
            <a:ext cx="8208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1" name="矩形 123911"/>
          <p:cNvSpPr/>
          <p:nvPr/>
        </p:nvSpPr>
        <p:spPr>
          <a:xfrm>
            <a:off x="3825720" y="5334120"/>
            <a:ext cx="8208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2" name="矩形 123912"/>
          <p:cNvSpPr/>
          <p:nvPr/>
        </p:nvSpPr>
        <p:spPr>
          <a:xfrm>
            <a:off x="3835440" y="5705640"/>
            <a:ext cx="82080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1000"/>
                                        <p:tgtEl>
                                          <p:spTgt spid="1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1000"/>
                                        <p:tgtEl>
                                          <p:spTgt spid="1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1000"/>
                                        <p:tgtEl>
                                          <p:spTgt spid="1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1000"/>
                                        <p:tgtEl>
                                          <p:spTgt spid="1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6" dur="1000"/>
                                        <p:tgtEl>
                                          <p:spTgt spid="14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1" dur="1000"/>
                                        <p:tgtEl>
                                          <p:spTgt spid="14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6" dur="1000"/>
                                        <p:tgtEl>
                                          <p:spTgt spid="14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3" name="图片 122881" descr=""/>
          <p:cNvPicPr/>
          <p:nvPr/>
        </p:nvPicPr>
        <p:blipFill>
          <a:blip r:embed="rId1"/>
          <a:stretch/>
        </p:blipFill>
        <p:spPr>
          <a:xfrm>
            <a:off x="399960" y="1162080"/>
            <a:ext cx="8344080" cy="4514760"/>
          </a:xfrm>
          <a:prstGeom prst="rect">
            <a:avLst/>
          </a:prstGeom>
          <a:ln w="0">
            <a:noFill/>
          </a:ln>
        </p:spPr>
      </p:pic>
      <p:sp>
        <p:nvSpPr>
          <p:cNvPr id="1444" name="矩形 122882"/>
          <p:cNvSpPr/>
          <p:nvPr/>
        </p:nvSpPr>
        <p:spPr>
          <a:xfrm>
            <a:off x="8121600" y="3905280"/>
            <a:ext cx="449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1000"/>
                                        <p:tgtEl>
                                          <p:spTgt spid="14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5" name="图片 121857" descr=""/>
          <p:cNvPicPr/>
          <p:nvPr/>
        </p:nvPicPr>
        <p:blipFill>
          <a:blip r:embed="rId1"/>
          <a:stretch/>
        </p:blipFill>
        <p:spPr>
          <a:xfrm>
            <a:off x="390600" y="1138320"/>
            <a:ext cx="8362800" cy="4714920"/>
          </a:xfrm>
          <a:prstGeom prst="rect">
            <a:avLst/>
          </a:prstGeom>
          <a:ln w="0">
            <a:noFill/>
          </a:ln>
        </p:spPr>
      </p:pic>
      <p:sp>
        <p:nvSpPr>
          <p:cNvPr id="1446" name="矩形 121858"/>
          <p:cNvSpPr/>
          <p:nvPr/>
        </p:nvSpPr>
        <p:spPr>
          <a:xfrm>
            <a:off x="8101080" y="1052640"/>
            <a:ext cx="449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7" name="矩形 121859"/>
          <p:cNvSpPr/>
          <p:nvPr/>
        </p:nvSpPr>
        <p:spPr>
          <a:xfrm>
            <a:off x="8101080" y="2565360"/>
            <a:ext cx="449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0" dur="1000"/>
                                        <p:tgtEl>
                                          <p:spTgt spid="14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1000"/>
                                        <p:tgtEl>
                                          <p:spTgt spid="1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8" name="图片 120834" descr=""/>
          <p:cNvPicPr/>
          <p:nvPr/>
        </p:nvPicPr>
        <p:blipFill>
          <a:blip r:embed="rId1"/>
          <a:stretch/>
        </p:blipFill>
        <p:spPr>
          <a:xfrm>
            <a:off x="395280" y="2066760"/>
            <a:ext cx="8353440" cy="2724480"/>
          </a:xfrm>
          <a:prstGeom prst="rect">
            <a:avLst/>
          </a:prstGeom>
          <a:ln w="0">
            <a:noFill/>
          </a:ln>
        </p:spPr>
      </p:pic>
      <p:sp>
        <p:nvSpPr>
          <p:cNvPr id="1449" name="矩形 120835"/>
          <p:cNvSpPr/>
          <p:nvPr/>
        </p:nvSpPr>
        <p:spPr>
          <a:xfrm>
            <a:off x="8172360" y="2924280"/>
            <a:ext cx="449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2" dur="1000"/>
                                        <p:tgtEl>
                                          <p:spTgt spid="1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0" name="图片 119809" descr=""/>
          <p:cNvPicPr/>
          <p:nvPr/>
        </p:nvPicPr>
        <p:blipFill>
          <a:blip r:embed="rId1"/>
          <a:stretch/>
        </p:blipFill>
        <p:spPr>
          <a:xfrm>
            <a:off x="352440" y="1709640"/>
            <a:ext cx="8362800" cy="3419640"/>
          </a:xfrm>
          <a:prstGeom prst="rect">
            <a:avLst/>
          </a:prstGeom>
          <a:ln w="0">
            <a:noFill/>
          </a:ln>
        </p:spPr>
      </p:pic>
      <p:sp>
        <p:nvSpPr>
          <p:cNvPr id="1451" name="矩形 119810"/>
          <p:cNvSpPr/>
          <p:nvPr/>
        </p:nvSpPr>
        <p:spPr>
          <a:xfrm>
            <a:off x="4568760" y="2095560"/>
            <a:ext cx="449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9" dur="1000"/>
                                        <p:tgtEl>
                                          <p:spTgt spid="14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2" name="图片 118785" descr=""/>
          <p:cNvPicPr/>
          <p:nvPr/>
        </p:nvPicPr>
        <p:blipFill>
          <a:blip r:embed="rId1"/>
          <a:stretch/>
        </p:blipFill>
        <p:spPr>
          <a:xfrm>
            <a:off x="390600" y="2109960"/>
            <a:ext cx="8362800" cy="2638080"/>
          </a:xfrm>
          <a:prstGeom prst="rect">
            <a:avLst/>
          </a:prstGeom>
          <a:ln w="0">
            <a:noFill/>
          </a:ln>
        </p:spPr>
      </p:pic>
      <p:sp>
        <p:nvSpPr>
          <p:cNvPr id="1453" name="矩形 118786"/>
          <p:cNvSpPr/>
          <p:nvPr/>
        </p:nvSpPr>
        <p:spPr>
          <a:xfrm>
            <a:off x="8101080" y="2852640"/>
            <a:ext cx="449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6" dur="1000"/>
                                        <p:tgtEl>
                                          <p:spTgt spid="14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4" name="图片 117761" descr=""/>
          <p:cNvPicPr/>
          <p:nvPr/>
        </p:nvPicPr>
        <p:blipFill>
          <a:blip r:embed="rId1"/>
          <a:stretch/>
        </p:blipFill>
        <p:spPr>
          <a:xfrm>
            <a:off x="352440" y="961920"/>
            <a:ext cx="8381880" cy="5067360"/>
          </a:xfrm>
          <a:prstGeom prst="rect">
            <a:avLst/>
          </a:prstGeom>
          <a:ln w="0">
            <a:noFill/>
          </a:ln>
        </p:spPr>
      </p:pic>
      <p:sp>
        <p:nvSpPr>
          <p:cNvPr id="1455" name="矩形 117762"/>
          <p:cNvSpPr/>
          <p:nvPr/>
        </p:nvSpPr>
        <p:spPr>
          <a:xfrm>
            <a:off x="5275440" y="2205000"/>
            <a:ext cx="44892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6" name="矩形 117763"/>
          <p:cNvSpPr/>
          <p:nvPr/>
        </p:nvSpPr>
        <p:spPr>
          <a:xfrm>
            <a:off x="8101080" y="4149720"/>
            <a:ext cx="449280" cy="3333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3" dur="1000"/>
                                        <p:tgtEl>
                                          <p:spTgt spid="14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8" dur="1000"/>
                                        <p:tgtEl>
                                          <p:spTgt spid="14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8-14T01:19:54Z</dcterms:modified>
  <cp:revision>37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912</vt:lpwstr>
  </property>
</Properties>
</file>